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94B7-004F-4CE0-A63D-58034E063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237C-A6F1-4FF2-BB88-F3378370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9C31-85F4-4460-A3BB-C3D687EB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AA93-7832-4EFC-BA96-0DCB8FCF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C94B-C019-4F7B-8B8F-2C832287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DECF-BC55-4883-802A-D25E2311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628A-A06D-4A29-B966-F28BDAF9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0559-772B-4AEE-BD7E-7300E696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D107-9B19-414B-A5E6-0556488F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A545-8C2E-4AC6-A3FE-DCEF2C72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D317-5F7A-4278-96CE-900311E3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E650-C1DC-4E09-A66D-FCD65CF2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9AE6-15BA-4922-84D9-EDF2A200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510B-DBAF-4104-9AA5-6B937BADA5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A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28191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English Auction,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bidders know their values, price is (approximately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high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d inc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219320" y="4367160"/>
                <a:ext cx="57290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Equilibrium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dders with values uniformly distributed on [0,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ize a linear bidding ru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idder with valu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o bid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a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if and only i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the bidder wins with prob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143000" y="3886200"/>
                <a:ext cx="29941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λ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676520" y="4952880"/>
                <a:ext cx="12189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λ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952880" y="4800600"/>
                <a:ext cx="1295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λ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705720" y="5334120"/>
                <a:ext cx="12952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λ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First Order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rder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85800" y="2438280"/>
                <a:ext cx="586728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38080" y="4648320"/>
                <a:ext cx="205740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Bayes-Nash Equilibrium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: hypothesize that all bidders bid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s their value, then show any given bidder follows the same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s wh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quilibrium strategy, and each bidder bids the expected second highest value, given their value is high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733920" y="3200400"/>
                <a:ext cx="14475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048120" y="5334120"/>
                <a:ext cx="586728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den>
                        </m:f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Dutch A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ing price starts high, falls until a bidder ac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sell cut flowers in Ho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ategically equival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sealed-bid a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oth auctions, a strateg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s in a win at pri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vided all others chose strategy &lt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Vickrey A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rice sealed-b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bidder wins, pays second highest b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private values, yields dominant strategy to bi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Vickrey A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sell spectrum licenses in New Zea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wide cel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gh bid of $11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ice of $11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times revelation of value is bad poli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The Winner’s C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"I paid too much for it, but it's worth it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Sam Goldwy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winner's curse is the fact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bidder who most overestimates the value of the object wins the bid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certain resale value can induce winner's cu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hould reduce bid to adjust for this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 bids more the more bidders there ar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The Winner’s C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3280" indent="-2332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s tend to follow a normal distribution, or bell cur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highest estimate, on average, is larger than the average estim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estimate reflects actual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Distribution of Value Estim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85800" y="2362320"/>
            <a:ext cx="7391520" cy="3381120"/>
            <a:chOff x="685800" y="2362320"/>
            <a:chExt cx="7391520" cy="338112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685800" y="2362320"/>
              <a:ext cx="6858000" cy="33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7391520" y="5257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52880" y="27432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requ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Dot A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2440" indent="-3524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ext slide has some number of d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winner of the auction will get 2 cents per d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the number of do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laying for real mon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Size of Adju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54100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deviation is a measure of the “average error” in foreca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8080" y="2514600"/>
          <a:ext cx="7772400" cy="2590920"/>
        </p:xfrm>
        <a:graphic>
          <a:graphicData uri="http://schemas.openxmlformats.org/drawingml/2006/table">
            <a:tbl>
              <a:tblPr/>
              <a:tblGrid>
                <a:gridCol w="706680"/>
                <a:gridCol w="706320"/>
                <a:gridCol w="706320"/>
                <a:gridCol w="706680"/>
                <a:gridCol w="706320"/>
                <a:gridCol w="708120"/>
                <a:gridCol w="706320"/>
                <a:gridCol w="706320"/>
                <a:gridCol w="706680"/>
                <a:gridCol w="706320"/>
                <a:gridCol w="706320"/>
              </a:tblGrid>
              <a:tr h="1143000">
                <a:tc gridSpan="11"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rage Adjustment Needed, in Standard Deviations, for Given Number of Bidder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2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inner’s curse requires a downward adjustment in estimate which is larger the more bidders there a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blem of winner's curse is smaller in English auction, because other value estimates revealed, reducing uncertain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glish auction will tend to have higher prices than sealed-bid au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onclusions,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glish auction reduces reg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ner’s curse effect is smaller the higher one’s signal, because the fact that others had lower signals is less meaningful the higher a bidder’s sig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RCA Transponder Auction, 198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62120" y="1523880"/>
            <a:ext cx="7924320" cy="4572000"/>
            <a:chOff x="762120" y="1523880"/>
            <a:chExt cx="7924320" cy="4572000"/>
          </a:xfrm>
        </p:grpSpPr>
        <p:grpSp>
          <p:nvGrpSpPr>
            <p:cNvPr id="117" name=""/>
            <p:cNvGrpSpPr/>
            <p:nvPr/>
          </p:nvGrpSpPr>
          <p:grpSpPr>
            <a:xfrm>
              <a:off x="768960" y="1526760"/>
              <a:ext cx="7908480" cy="4565520"/>
              <a:chOff x="768960" y="1526760"/>
              <a:chExt cx="7908480" cy="456552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768960" y="1526760"/>
                <a:ext cx="1531440" cy="506880"/>
                <a:chOff x="768960" y="1526760"/>
                <a:chExt cx="1531440" cy="5068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885960" y="1526760"/>
                  <a:ext cx="129744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rder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68960" y="1526760"/>
                  <a:ext cx="153144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2300760" y="1526760"/>
                <a:ext cx="3295440" cy="506880"/>
                <a:chOff x="2300760" y="1526760"/>
                <a:chExt cx="3295440" cy="5068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417760" y="1526760"/>
                  <a:ext cx="306072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inning Bidder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300760" y="1526760"/>
                  <a:ext cx="329544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5596920" y="1526760"/>
                <a:ext cx="3080520" cy="506880"/>
                <a:chOff x="5596920" y="1526760"/>
                <a:chExt cx="3080520" cy="5068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713920" y="1526760"/>
                  <a:ext cx="284652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ice Obtained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596920" y="1526760"/>
                  <a:ext cx="308052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768960" y="2033640"/>
                <a:ext cx="1531440" cy="507240"/>
                <a:chOff x="768960" y="2033640"/>
                <a:chExt cx="1531440" cy="5072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885960" y="2033640"/>
                  <a:ext cx="129744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   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68960" y="2033640"/>
                  <a:ext cx="153144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2300760" y="2033640"/>
                <a:ext cx="3295440" cy="507240"/>
                <a:chOff x="2300760" y="2033640"/>
                <a:chExt cx="3295440" cy="5072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417760" y="2033640"/>
                  <a:ext cx="306072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LC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300760" y="2033640"/>
                  <a:ext cx="329544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5596920" y="2033640"/>
                <a:ext cx="3080520" cy="507240"/>
                <a:chOff x="5596920" y="2033640"/>
                <a:chExt cx="3080520" cy="5072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5713920" y="2033640"/>
                  <a:ext cx="284652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4,400,000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596920" y="2033640"/>
                  <a:ext cx="308052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768960" y="2541240"/>
                <a:ext cx="1531440" cy="506880"/>
                <a:chOff x="768960" y="2541240"/>
                <a:chExt cx="1531440" cy="5068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885960" y="2541240"/>
                  <a:ext cx="129744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  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68960" y="2541240"/>
                  <a:ext cx="153144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2300760" y="2541240"/>
                <a:ext cx="3295440" cy="506880"/>
                <a:chOff x="2300760" y="2541240"/>
                <a:chExt cx="3295440" cy="5068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417760" y="2541240"/>
                  <a:ext cx="306072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illy H. Batts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300760" y="2541240"/>
                  <a:ext cx="329544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5596920" y="2541240"/>
                <a:ext cx="3080520" cy="506880"/>
                <a:chOff x="5596920" y="2541240"/>
                <a:chExt cx="3080520" cy="506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713920" y="2541240"/>
                  <a:ext cx="284652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4,100,000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596920" y="2541240"/>
                  <a:ext cx="308052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768960" y="3048480"/>
                <a:ext cx="1531440" cy="507240"/>
                <a:chOff x="768960" y="3048480"/>
                <a:chExt cx="1531440" cy="5072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885960" y="3048480"/>
                  <a:ext cx="129744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   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68960" y="3048480"/>
                  <a:ext cx="153144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2300760" y="3048480"/>
                <a:ext cx="3295440" cy="507240"/>
                <a:chOff x="2300760" y="3048480"/>
                <a:chExt cx="3295440" cy="5072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417760" y="3048480"/>
                  <a:ext cx="306072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arner Amex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00760" y="3048480"/>
                  <a:ext cx="329544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596920" y="3048480"/>
                <a:ext cx="3080520" cy="507240"/>
                <a:chOff x="5596920" y="3048480"/>
                <a:chExt cx="3080520" cy="5072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713920" y="3048480"/>
                  <a:ext cx="284652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3,700,000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596920" y="3048480"/>
                  <a:ext cx="308052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768960" y="3556080"/>
                <a:ext cx="1531440" cy="506880"/>
                <a:chOff x="768960" y="3556080"/>
                <a:chExt cx="1531440" cy="5068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885960" y="3556080"/>
                  <a:ext cx="129744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   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68960" y="3556080"/>
                  <a:ext cx="153144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2300760" y="3556080"/>
                <a:ext cx="3295440" cy="506880"/>
                <a:chOff x="2300760" y="3556080"/>
                <a:chExt cx="3295440" cy="5068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417760" y="3556080"/>
                  <a:ext cx="306072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CTV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300760" y="3556080"/>
                  <a:ext cx="329544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5596920" y="3556080"/>
                <a:ext cx="3080520" cy="506880"/>
                <a:chOff x="5596920" y="3556080"/>
                <a:chExt cx="3080520" cy="5068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5713920" y="3556080"/>
                  <a:ext cx="284652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3,500,000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596920" y="3556080"/>
                  <a:ext cx="308052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768960" y="4063320"/>
                <a:ext cx="1531440" cy="507240"/>
                <a:chOff x="768960" y="4063320"/>
                <a:chExt cx="1531440" cy="5072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885960" y="4063320"/>
                  <a:ext cx="129744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   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68960" y="4063320"/>
                  <a:ext cx="153144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2300760" y="4063320"/>
                <a:ext cx="3295440" cy="507240"/>
                <a:chOff x="2300760" y="4063320"/>
                <a:chExt cx="3295440" cy="5072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417760" y="4063320"/>
                  <a:ext cx="306072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BO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300760" y="4063320"/>
                  <a:ext cx="329544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5596920" y="4063320"/>
                <a:ext cx="3080520" cy="507240"/>
                <a:chOff x="5596920" y="4063320"/>
                <a:chExt cx="3080520" cy="5072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5713920" y="4063320"/>
                  <a:ext cx="284652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2,500,000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596920" y="4063320"/>
                  <a:ext cx="308052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768960" y="4570560"/>
                <a:ext cx="1531440" cy="506880"/>
                <a:chOff x="768960" y="4570560"/>
                <a:chExt cx="1531440" cy="5068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885960" y="4570560"/>
                  <a:ext cx="129744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   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68960" y="4570560"/>
                  <a:ext cx="153144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2300760" y="4570560"/>
                <a:ext cx="3295440" cy="506880"/>
                <a:chOff x="2300760" y="4570560"/>
                <a:chExt cx="3295440" cy="5068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2417760" y="4570560"/>
                  <a:ext cx="306072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ner City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300760" y="4570560"/>
                  <a:ext cx="329544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5596920" y="4570560"/>
                <a:ext cx="3080520" cy="506880"/>
                <a:chOff x="5596920" y="4570560"/>
                <a:chExt cx="3080520" cy="5068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5713920" y="4570560"/>
                  <a:ext cx="284652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0,700,000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596920" y="4570560"/>
                  <a:ext cx="308052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768960" y="5077800"/>
                <a:ext cx="1531440" cy="507240"/>
                <a:chOff x="768960" y="5077800"/>
                <a:chExt cx="1531440" cy="5072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885960" y="5077800"/>
                  <a:ext cx="129744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   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68960" y="5077800"/>
                  <a:ext cx="153144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2300760" y="5077800"/>
                <a:ext cx="3295440" cy="507240"/>
                <a:chOff x="2300760" y="5077800"/>
                <a:chExt cx="3295440" cy="50724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2417760" y="5077800"/>
                  <a:ext cx="306072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TV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300760" y="5077800"/>
                  <a:ext cx="329544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596920" y="5077800"/>
                <a:ext cx="3080520" cy="507240"/>
                <a:chOff x="5596920" y="5077800"/>
                <a:chExt cx="3080520" cy="50724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713920" y="5077800"/>
                  <a:ext cx="284652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1,200,000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596920" y="5077800"/>
                  <a:ext cx="308052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768960" y="5585400"/>
                <a:ext cx="1531440" cy="506880"/>
                <a:chOff x="768960" y="5585400"/>
                <a:chExt cx="1531440" cy="5068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885960" y="5585400"/>
                  <a:ext cx="129744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VG 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68960" y="5585400"/>
                  <a:ext cx="153144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2300760" y="5585400"/>
                <a:ext cx="3295440" cy="506880"/>
                <a:chOff x="2300760" y="5585400"/>
                <a:chExt cx="3295440" cy="5068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417760" y="5585400"/>
                  <a:ext cx="306072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300760" y="5585400"/>
                  <a:ext cx="329544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5596920" y="5585400"/>
                <a:ext cx="3080520" cy="506880"/>
                <a:chOff x="5596920" y="5585400"/>
                <a:chExt cx="3080520" cy="5068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5713920" y="5585400"/>
                  <a:ext cx="284652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2,871,428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596920" y="5585400"/>
                  <a:ext cx="308052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" name=""/>
            <p:cNvSpPr/>
            <p:nvPr/>
          </p:nvSpPr>
          <p:spPr>
            <a:xfrm>
              <a:off x="762120" y="1523880"/>
              <a:ext cx="7924320" cy="4572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Olympic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62120" y="1676520"/>
            <a:ext cx="7848000" cy="4922640"/>
            <a:chOff x="762120" y="1676520"/>
            <a:chExt cx="7848000" cy="4922640"/>
          </a:xfrm>
        </p:grpSpPr>
        <p:grpSp>
          <p:nvGrpSpPr>
            <p:cNvPr id="202" name=""/>
            <p:cNvGrpSpPr/>
            <p:nvPr/>
          </p:nvGrpSpPr>
          <p:grpSpPr>
            <a:xfrm>
              <a:off x="767520" y="1678320"/>
              <a:ext cx="7835760" cy="4918320"/>
              <a:chOff x="767520" y="1678320"/>
              <a:chExt cx="7835760" cy="491832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767520" y="1678320"/>
                <a:ext cx="1163160" cy="351000"/>
                <a:chOff x="767520" y="1678320"/>
                <a:chExt cx="1163160" cy="35100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847800" y="167832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Yea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67520" y="167832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1931040" y="1678320"/>
                <a:ext cx="2259360" cy="351000"/>
                <a:chOff x="1931040" y="1678320"/>
                <a:chExt cx="2259360" cy="3510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2010960" y="167832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Cit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931040" y="167832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191120" y="1678320"/>
                <a:ext cx="1695960" cy="351000"/>
                <a:chOff x="4191120" y="1678320"/>
                <a:chExt cx="1695960" cy="3510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271040" y="167832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Network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91120" y="167832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887800" y="1678320"/>
                <a:ext cx="966600" cy="351000"/>
                <a:chOff x="5887800" y="1678320"/>
                <a:chExt cx="966600" cy="35100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968080" y="167832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$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887800" y="167832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854760" y="1678320"/>
                <a:ext cx="1748520" cy="351000"/>
                <a:chOff x="6854760" y="1678320"/>
                <a:chExt cx="1748520" cy="3510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935040" y="167832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$M 198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854760" y="167832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67520" y="2029320"/>
                <a:ext cx="1163160" cy="351000"/>
                <a:chOff x="767520" y="2029320"/>
                <a:chExt cx="1163160" cy="3510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847800" y="202932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96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67520" y="202932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931040" y="2029320"/>
                <a:ext cx="2259360" cy="351000"/>
                <a:chOff x="1931040" y="2029320"/>
                <a:chExt cx="2259360" cy="3510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010960" y="202932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Rom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931040" y="202932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4191120" y="2029320"/>
                <a:ext cx="1695960" cy="351000"/>
                <a:chOff x="4191120" y="2029320"/>
                <a:chExt cx="1695960" cy="3510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4271040" y="202932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CB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191120" y="202932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5887800" y="2029320"/>
                <a:ext cx="966600" cy="351000"/>
                <a:chOff x="5887800" y="2029320"/>
                <a:chExt cx="966600" cy="3510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968080" y="202932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0.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887800" y="202932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6854760" y="2029320"/>
                <a:ext cx="1748520" cy="351000"/>
                <a:chOff x="6854760" y="2029320"/>
                <a:chExt cx="1748520" cy="3510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935040" y="202932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.3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854760" y="202932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767520" y="2380680"/>
                <a:ext cx="1163160" cy="351360"/>
                <a:chOff x="767520" y="2380680"/>
                <a:chExt cx="1163160" cy="3513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847800" y="2380680"/>
                  <a:ext cx="100224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96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67520" y="2380680"/>
                  <a:ext cx="116316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931040" y="2380680"/>
                <a:ext cx="2259360" cy="351360"/>
                <a:chOff x="1931040" y="2380680"/>
                <a:chExt cx="2259360" cy="3513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2010960" y="2380680"/>
                  <a:ext cx="209880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Toky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931040" y="2380680"/>
                  <a:ext cx="225936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4191120" y="2380680"/>
                <a:ext cx="1695960" cy="351360"/>
                <a:chOff x="4191120" y="2380680"/>
                <a:chExt cx="1695960" cy="3513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4271040" y="2380680"/>
                  <a:ext cx="153576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A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191120" y="2380680"/>
                  <a:ext cx="169596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5887800" y="2380680"/>
                <a:ext cx="966600" cy="351360"/>
                <a:chOff x="5887800" y="2380680"/>
                <a:chExt cx="966600" cy="3513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5968080" y="2380680"/>
                  <a:ext cx="80604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.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887800" y="2380680"/>
                  <a:ext cx="96660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854760" y="2380680"/>
                <a:ext cx="1748520" cy="351360"/>
                <a:chOff x="6854760" y="2380680"/>
                <a:chExt cx="1748520" cy="3513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935040" y="2380680"/>
                  <a:ext cx="158796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.8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854760" y="2380680"/>
                  <a:ext cx="174852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767520" y="2732400"/>
                <a:ext cx="1163160" cy="351000"/>
                <a:chOff x="767520" y="2732400"/>
                <a:chExt cx="1163160" cy="3510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847800" y="273240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96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67520" y="273240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1931040" y="2732400"/>
                <a:ext cx="2259360" cy="351000"/>
                <a:chOff x="1931040" y="2732400"/>
                <a:chExt cx="2259360" cy="3510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010960" y="273240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exic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31040" y="273240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4191120" y="2732400"/>
                <a:ext cx="1695960" cy="351000"/>
                <a:chOff x="4191120" y="2732400"/>
                <a:chExt cx="1695960" cy="3510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4271040" y="273240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A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191120" y="273240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5887800" y="2732400"/>
                <a:ext cx="966600" cy="351000"/>
                <a:chOff x="5887800" y="2732400"/>
                <a:chExt cx="966600" cy="3510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5968080" y="273240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.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887800" y="273240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6854760" y="2732400"/>
                <a:ext cx="1748520" cy="351000"/>
                <a:chOff x="6854760" y="2732400"/>
                <a:chExt cx="1748520" cy="3510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935040" y="273240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2.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854760" y="273240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767520" y="3083400"/>
                <a:ext cx="1163160" cy="351000"/>
                <a:chOff x="767520" y="3083400"/>
                <a:chExt cx="1163160" cy="35100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847800" y="308340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97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67520" y="308340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931040" y="3083400"/>
                <a:ext cx="2259360" cy="351000"/>
                <a:chOff x="1931040" y="3083400"/>
                <a:chExt cx="2259360" cy="35100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2010960" y="308340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unic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931040" y="308340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4191120" y="3083400"/>
                <a:ext cx="1695960" cy="351000"/>
                <a:chOff x="4191120" y="3083400"/>
                <a:chExt cx="1695960" cy="35100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271040" y="308340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A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191120" y="308340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887800" y="3083400"/>
                <a:ext cx="966600" cy="351000"/>
                <a:chOff x="5887800" y="3083400"/>
                <a:chExt cx="966600" cy="3510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968080" y="308340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7.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887800" y="308340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6854760" y="3083400"/>
                <a:ext cx="1748520" cy="351000"/>
                <a:chOff x="6854760" y="3083400"/>
                <a:chExt cx="1748520" cy="3510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6935040" y="308340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7.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854760" y="308340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767520" y="3434760"/>
                <a:ext cx="1163160" cy="351000"/>
                <a:chOff x="767520" y="3434760"/>
                <a:chExt cx="1163160" cy="3510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847800" y="343476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97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67520" y="343476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931040" y="3434760"/>
                <a:ext cx="2259360" cy="351000"/>
                <a:chOff x="1931040" y="3434760"/>
                <a:chExt cx="2259360" cy="35100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2010960" y="343476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ontre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931040" y="343476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4191120" y="3434760"/>
                <a:ext cx="1695960" cy="351000"/>
                <a:chOff x="4191120" y="3434760"/>
                <a:chExt cx="1695960" cy="351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4271040" y="343476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A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191120" y="343476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5887800" y="3434760"/>
                <a:ext cx="966600" cy="351000"/>
                <a:chOff x="5887800" y="3434760"/>
                <a:chExt cx="966600" cy="351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5968080" y="343476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887800" y="343476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854760" y="3434760"/>
                <a:ext cx="1748520" cy="351000"/>
                <a:chOff x="6854760" y="3434760"/>
                <a:chExt cx="1748520" cy="351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935040" y="343476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3.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854760" y="343476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767520" y="3786120"/>
                <a:ext cx="1163160" cy="351360"/>
                <a:chOff x="767520" y="3786120"/>
                <a:chExt cx="1163160" cy="3513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847800" y="3786120"/>
                  <a:ext cx="100224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98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67520" y="3786120"/>
                  <a:ext cx="116316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1931040" y="3786120"/>
                <a:ext cx="2259360" cy="351360"/>
                <a:chOff x="1931040" y="3786120"/>
                <a:chExt cx="2259360" cy="35136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010960" y="3786120"/>
                  <a:ext cx="209880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oscow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931040" y="3786120"/>
                  <a:ext cx="225936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4191120" y="3786120"/>
                <a:ext cx="1695960" cy="351360"/>
                <a:chOff x="4191120" y="3786120"/>
                <a:chExt cx="1695960" cy="35136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4271040" y="3786120"/>
                  <a:ext cx="153576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N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191120" y="3786120"/>
                  <a:ext cx="169596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5887800" y="3786120"/>
                <a:ext cx="966600" cy="351360"/>
                <a:chOff x="5887800" y="3786120"/>
                <a:chExt cx="966600" cy="3513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5968080" y="3786120"/>
                  <a:ext cx="80604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8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887800" y="3786120"/>
                  <a:ext cx="96660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6854760" y="3786120"/>
                <a:ext cx="1748520" cy="351360"/>
                <a:chOff x="6854760" y="3786120"/>
                <a:chExt cx="1748520" cy="3513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6935040" y="3786120"/>
                  <a:ext cx="158796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05.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854760" y="3786120"/>
                  <a:ext cx="174852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767520" y="4137840"/>
                <a:ext cx="1163160" cy="351000"/>
                <a:chOff x="767520" y="4137840"/>
                <a:chExt cx="1163160" cy="3510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847800" y="413784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98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67520" y="413784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1931040" y="4137840"/>
                <a:ext cx="2259360" cy="351000"/>
                <a:chOff x="1931040" y="4137840"/>
                <a:chExt cx="2259360" cy="3510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010960" y="413784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os Angel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1931040" y="413784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4191120" y="4137840"/>
                <a:ext cx="1695960" cy="351000"/>
                <a:chOff x="4191120" y="4137840"/>
                <a:chExt cx="1695960" cy="3510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4271040" y="413784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A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191120" y="413784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5887800" y="4137840"/>
                <a:ext cx="966600" cy="351000"/>
                <a:chOff x="5887800" y="4137840"/>
                <a:chExt cx="966600" cy="3510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968080" y="413784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2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887800" y="413784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6854760" y="4137840"/>
                <a:ext cx="1748520" cy="351000"/>
                <a:chOff x="6854760" y="4137840"/>
                <a:chExt cx="1748520" cy="35100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935040" y="413784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16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854760" y="413784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767520" y="4488840"/>
                <a:ext cx="1163160" cy="351000"/>
                <a:chOff x="767520" y="4488840"/>
                <a:chExt cx="1163160" cy="35100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847800" y="448884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98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67520" y="448884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1931040" y="4488840"/>
                <a:ext cx="2259360" cy="351000"/>
                <a:chOff x="1931040" y="4488840"/>
                <a:chExt cx="2259360" cy="3510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2010960" y="448884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eou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931040" y="448884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4191120" y="4488840"/>
                <a:ext cx="1695960" cy="351000"/>
                <a:chOff x="4191120" y="4488840"/>
                <a:chExt cx="1695960" cy="3510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4271040" y="448884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N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191120" y="448884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5887800" y="4488840"/>
                <a:ext cx="966600" cy="351000"/>
                <a:chOff x="5887800" y="4488840"/>
                <a:chExt cx="966600" cy="35100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5968080" y="448884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3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887800" y="448884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6854760" y="4488840"/>
                <a:ext cx="1748520" cy="351000"/>
                <a:chOff x="6854760" y="4488840"/>
                <a:chExt cx="1748520" cy="35100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6935040" y="448884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53.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854760" y="448884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767520" y="4840200"/>
                <a:ext cx="1163160" cy="351000"/>
                <a:chOff x="767520" y="4840200"/>
                <a:chExt cx="1163160" cy="35100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847800" y="484020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99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67520" y="484020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1931040" y="4840200"/>
                <a:ext cx="2259360" cy="351000"/>
                <a:chOff x="1931040" y="4840200"/>
                <a:chExt cx="2259360" cy="35100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2010960" y="484020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Barcelon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931040" y="484020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4191120" y="4840200"/>
                <a:ext cx="1695960" cy="351000"/>
                <a:chOff x="4191120" y="4840200"/>
                <a:chExt cx="1695960" cy="35100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4271040" y="484020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N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191120" y="484020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5887800" y="4840200"/>
                <a:ext cx="966600" cy="351000"/>
                <a:chOff x="5887800" y="4840200"/>
                <a:chExt cx="966600" cy="35100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5968080" y="484020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0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5887800" y="484020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854760" y="4840200"/>
                <a:ext cx="1748520" cy="351000"/>
                <a:chOff x="6854760" y="4840200"/>
                <a:chExt cx="1748520" cy="35100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935040" y="484020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81.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854760" y="484020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767520" y="5191560"/>
                <a:ext cx="1163160" cy="351360"/>
                <a:chOff x="767520" y="5191560"/>
                <a:chExt cx="1163160" cy="3513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847800" y="5191560"/>
                  <a:ext cx="100224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99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67520" y="5191560"/>
                  <a:ext cx="116316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931040" y="5191560"/>
                <a:ext cx="2259360" cy="351360"/>
                <a:chOff x="1931040" y="5191560"/>
                <a:chExt cx="2259360" cy="3513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010960" y="5191560"/>
                  <a:ext cx="209880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Atlant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931040" y="5191560"/>
                  <a:ext cx="225936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4191120" y="5191560"/>
                <a:ext cx="1695960" cy="351360"/>
                <a:chOff x="4191120" y="5191560"/>
                <a:chExt cx="1695960" cy="3513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4271040" y="5191560"/>
                  <a:ext cx="153576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N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191120" y="5191560"/>
                  <a:ext cx="169596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5887800" y="5191560"/>
                <a:ext cx="966600" cy="351360"/>
                <a:chOff x="5887800" y="5191560"/>
                <a:chExt cx="966600" cy="3513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968080" y="5191560"/>
                  <a:ext cx="80604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5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887800" y="5191560"/>
                  <a:ext cx="96660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6854760" y="5191560"/>
                <a:ext cx="1748520" cy="351360"/>
                <a:chOff x="6854760" y="5191560"/>
                <a:chExt cx="1748520" cy="35136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6935040" y="5191560"/>
                  <a:ext cx="158796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90.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854760" y="5191560"/>
                  <a:ext cx="174852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767520" y="5542920"/>
                <a:ext cx="1163160" cy="351000"/>
                <a:chOff x="767520" y="5542920"/>
                <a:chExt cx="1163160" cy="35100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847800" y="554292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67520" y="554292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1931040" y="5542920"/>
                <a:ext cx="2259360" cy="351000"/>
                <a:chOff x="1931040" y="5542920"/>
                <a:chExt cx="2259360" cy="35100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2010960" y="554292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ydne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931040" y="554292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4191120" y="5542920"/>
                <a:ext cx="1695960" cy="351000"/>
                <a:chOff x="4191120" y="5542920"/>
                <a:chExt cx="1695960" cy="35100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4271040" y="554292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N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191120" y="554292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5887800" y="5542920"/>
                <a:ext cx="966600" cy="351000"/>
                <a:chOff x="5887800" y="5542920"/>
                <a:chExt cx="966600" cy="3510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5968080" y="554292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70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887800" y="554292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6854760" y="5542920"/>
                <a:ext cx="1748520" cy="351000"/>
                <a:chOff x="6854760" y="5542920"/>
                <a:chExt cx="1748520" cy="35100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6935040" y="554292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23.0*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854760" y="554292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767520" y="5894280"/>
                <a:ext cx="1163160" cy="351000"/>
                <a:chOff x="767520" y="5894280"/>
                <a:chExt cx="1163160" cy="35100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847800" y="589428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00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67520" y="589428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1931040" y="5894280"/>
                <a:ext cx="2259360" cy="351000"/>
                <a:chOff x="1931040" y="5894280"/>
                <a:chExt cx="2259360" cy="35100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2010960" y="589428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Athe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931040" y="589428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4191120" y="5894280"/>
                <a:ext cx="1695960" cy="351000"/>
                <a:chOff x="4191120" y="5894280"/>
                <a:chExt cx="1695960" cy="35100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4271040" y="589428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N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191120" y="589428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5887800" y="5894280"/>
                <a:ext cx="966600" cy="351000"/>
                <a:chOff x="5887800" y="5894280"/>
                <a:chExt cx="966600" cy="35100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5968080" y="589428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79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887800" y="589428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6854760" y="5894280"/>
                <a:ext cx="1748520" cy="351000"/>
                <a:chOff x="6854760" y="5894280"/>
                <a:chExt cx="1748520" cy="35100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6935040" y="589428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75.8*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854760" y="589428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767520" y="6245640"/>
                <a:ext cx="1163160" cy="351000"/>
                <a:chOff x="767520" y="6245640"/>
                <a:chExt cx="1163160" cy="35100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47800" y="624564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00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67520" y="624564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1931040" y="6245640"/>
                <a:ext cx="2259360" cy="351000"/>
                <a:chOff x="1931040" y="6245640"/>
                <a:chExt cx="2259360" cy="35100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2010960" y="624564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TB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931040" y="624564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4191120" y="6245640"/>
                <a:ext cx="1695960" cy="351000"/>
                <a:chOff x="4191120" y="6245640"/>
                <a:chExt cx="1695960" cy="35100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4271040" y="624564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N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191120" y="624564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5887800" y="6245640"/>
                <a:ext cx="966600" cy="351000"/>
                <a:chOff x="5887800" y="6245640"/>
                <a:chExt cx="966600" cy="35100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5968080" y="624564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89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887800" y="624564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6854760" y="6245640"/>
                <a:ext cx="1748520" cy="351000"/>
                <a:chOff x="6854760" y="6245640"/>
                <a:chExt cx="1748520" cy="35100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6935040" y="624564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536.4*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854760" y="624564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3" name=""/>
            <p:cNvSpPr/>
            <p:nvPr/>
          </p:nvSpPr>
          <p:spPr>
            <a:xfrm>
              <a:off x="762120" y="1676520"/>
              <a:ext cx="7848000" cy="4922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Lin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ing or linking prices to actual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duces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tigates the winner’s c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duces reg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ases prices on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Examples of Lin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yalties -- Seoul Olym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-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a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-price (Vickrey) a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te information pro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Linkage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in the seller’s interest to adopt the policy of revealing accurate information about value, to reduce winner’s cu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st-sharing and royalties reduce winner's curse problem by sharing ri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Auction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se an appropriate reserve price or minimum b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scending price (English) auctions rather than sealed-b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al information about the value of the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al information about the extent of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icap bidders with a known advant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Wilson A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al ascending a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$20 bill at a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ighest bidder wins $20, pays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cond-highest bidder pays bid, wins n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Wilson Auction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of Attr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bbying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eds dissipated in the f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games should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First Price Sealed-Bid A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0520" indent="-29052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ach bidder submits a bid in an envelope.  The bids are opened at the same time, and the high bid wins the object and pays his bid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Government sales of timber and offshore oil, government purchases of french fries, airplanes, road construction, pencils, zero gravity toilet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ically used by bureaucracies (government or large firms) to sell or buy th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First Price Sealed-Bid A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laying for real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wo cents per d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Name and BID IN DOLLARS + C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You agree to pay your bid to Caltech as a do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.g. Norman Conquest, $18.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ke Payments in the office of Susan Davis, 238 Bax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6600"/>
                </a:solidFill>
                <a:latin typeface="Arial"/>
                <a:ea typeface="Times New Roman"/>
              </a:rPr>
              <a:t>English (Oral Ascending)</a:t>
            </a:r>
            <a:r>
              <a:rPr b="1" lang="en-US" sz="3700" spc="-1" strike="noStrike">
                <a:solidFill>
                  <a:srgbClr val="ff6600"/>
                </a:solidFill>
                <a:latin typeface="Arial"/>
              </a:rPr>
              <a:t> Auctio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09120" y="2361960"/>
            <a:ext cx="80773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65240" indent="-1652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 auctioneer calls out an increasing series of prices, until no bidder is willing to top the current pric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 buy things, prices go in the reverse dir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tiques, real estate, art, wine, tobac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sed by the Babyloni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w transactions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5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Things Sold by A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5146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adio spectrum, prize bulls, race horses, off-shore oil leases, timber, antiques, tobacco, fresh fish, used cars, cut flowers (Holland), coins, stamps, wine, art, houses (80% in Australia), U.S. Treasury bills, stocks, pork bellies,   OJ,   gold,   wheat, foreign currency, TV broadcast rights for sports, corporations, celebrities' signatur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The Greatest Auction in History“  (William Safire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York Ti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March 16, 19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The Auction of the Century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b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Paris, March 15, 19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The most dramatic example of game theory's new power.  It was a triump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only for the FCC and the taxpayers, but also for game theory (and 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orists)."  (Fortune, February 6, 19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The government is smoking something to think they are going to get $10 billion for these licenses.“ [$20 billion raise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MCI chairman Bert Roberts, October 20, 19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For once, the government is doing a great job of dragging money out of people."    (McCaw chairman Wayne Perry, June 6, 199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FCC A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English Auction: How to B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know your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d up to your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mina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gnore jump b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r value is uncer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ther bids signal something abou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4T01:56:03Z</dcterms:created>
  <dc:creator>R. Preston McAfee</dc:creator>
  <dc:description/>
  <dc:language>en-US</dc:language>
  <cp:lastModifiedBy>Randolph P McAfee</cp:lastModifiedBy>
  <dcterms:modified xsi:type="dcterms:W3CDTF">2005-03-12T15:16:52Z</dcterms:modified>
  <cp:revision>35</cp:revision>
  <dc:subject/>
  <dc:title>The Winner’s Curse</dc:title>
</cp:coreProperties>
</file>