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677-0277-4DF5-8E1A-396D6BE9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: 2 uses for strate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about f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toward compet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still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law not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xon-Mobil document production 125 million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, Europe is passing pro-cartel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law is created by courts, not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ntract/combination in restraint of trade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ny contract leg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kham: intent to decrease Q il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of reason as opposed to per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Can’t tell if you have co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ax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onopoly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competitiv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vi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misunderstanding of 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poly power in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attempt to extend this power to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ding capacity ruling probl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atisfied with Sherman act enforcement, Congress passed new law, created new agency (F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ing – buy one good to obtain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tying – buyer agrees to buy all its needs from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dealing – buyer agrees to deal only with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territories – buyer agrees to operate only in one region to gain access to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M – buyer agrees to minimum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y pricing – pricing below cost to eliminate a compet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distributors settled, 42+ states on 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dealing with SPAM and click to unsub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 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n ski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ion: Walmart, 3 pharmaceutical prices less than cost, defense was it was a mistake, natural with 10,000 products, jury found Walmart guilty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in DOJ v American Air makes predation more difficult to 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05E-8B1B-48E6-B1F7-291775CC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756-D6FC-414B-BCA4-28425D6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19A-D6E1-4669-9646-221A2AFF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967-3235-44E3-8A0D-2A2F4E8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80C0-633E-41F1-AD19-E65B13D5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AD19-4EE5-4854-84CA-9CAAC6A7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29F9-394C-441A-ABF6-CFA0181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A9D-14D7-4FA0-B2B7-2E66C32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90B7-57CF-4192-91C1-68FD2DB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8AE6-231E-44C6-BD9B-7AAA10B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7C16-CCFC-44F0-961D-12ADC30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18B-3CBC-4F19-8FCD-802C22C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595F-632B-4196-891D-F15F078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7F8A-F3BB-4B86-BBE6-E9144C3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E9A-4710-4FC3-8312-B283137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4F05-91F6-4201-A3F6-0CADB349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8444-74BA-41F0-B415-4DBD0FB2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D05-96D8-4228-8095-4E1F8620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092-E4ED-4C1B-9CFE-B4A971F4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15A-E830-4E10-AA70-012AD80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F02-91C2-44C4-A1EF-E9F0E00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9F9-BABE-45BA-BE87-881D6CB3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0D0-B6AC-4822-9FF3-69D1CA3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09F-87AA-4FC2-8EA1-3F3F2F2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2EA-91C4-49F2-B40F-B26AE913C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8D8F-1AF3-473C-8AD3-F0115D1EE0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t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set of products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graphic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a geographic area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SNIP =  small but significant and nontransitory increase in pr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for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ing 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rschmann-Herfindahl Index (HHI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sum of the squared market sha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lt;1000, unconcentrated, no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000-1800, moderate, some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gt;1800, concentrated,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aries with industry characteristics, history of collusion, profit margi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ising rival’s co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ecl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crosoft’s proposed merger of Intu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OS to eliminate rivals to Quick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ime Warner/TBS (owns CN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TC required equal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rman Act (189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empt to monopoliz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piracy to restraint trad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ndard Oil broken into 33 compan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es and imprisonment for viol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le of Rea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 you have a pro-competitive reas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wo part t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have monopoly power in a marke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engage in illegal activity to extend or maintain that pow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gal to obtain monopoly through “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a superior product, business acumen or historic acciden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iolated law b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acts prohibiting utilities from selling power to rival smel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-fixing with foreign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ing price of ingot to sheet fabric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anding capacity to eliminate riv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 created competitors Reynolds, Kaiser using WWII as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yton Act (191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ds detail to Sher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criminal penal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ble dam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2 (Robinson Patman) prohibits price discrimination which lessens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rton salt volume discounts illegal (194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7 bans mergers that lessen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bids exclusionary tactics that lessen competition, including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ying (must buy one good to get anoth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ments Tying (buyer agrees to buy all its needs from the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Dealing (buyer agrees to deal only with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Territories (Buyer agrees to operate only in specified reg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ale Price Maintenance (Buyer agrees to a minimum resale pri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edatory Pricing (pricing below cost to eliminate a competit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TC 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mits FTC commissioners to prevent unfair and deceptive practi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ission is quasi-judici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s restraining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izza, oil treatments, and shak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to de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ccess to an essential facility denied, firm cannot compete and competition har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 below MC, AV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recoup lost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, Cont’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ce sold, good cannot be further constrain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ors east of Mississip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rcedes car p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ale Price Mainten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ying purchase of one good to use or non-use of another in order to lessen competition is illeg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ying Kodak film to Kodak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ry 3M equipment, can’t carry riv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4:28:38Z</dcterms:created>
  <dc:creator>Randolph P McAfee</dc:creator>
  <dc:description/>
  <dc:language>en-US</dc:language>
  <cp:lastModifiedBy>Randolph P McAfee</cp:lastModifiedBy>
  <dcterms:modified xsi:type="dcterms:W3CDTF">2004-09-02T20:56:43Z</dcterms:modified>
  <cp:revision>18</cp:revision>
  <dc:subject/>
  <dc:title>Antitrust</dc:title>
</cp:coreProperties>
</file>