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035E2-D8BF-4070-AF3F-7D6931D24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sight is to put the preferences on same line as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sales: service, coffee, browsing, selection, knowledgeable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fast 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bit of math to illustrate where logic come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wo instances of math in course, other is war of at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s better, plu overconfident, plus risk-lov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of this as the theory of Hong K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EB7-32EE-4CB2-B001-1047C4F4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951-4DA5-4CB1-9618-5B4018FA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BC0-DF80-443D-B37F-87A498ED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C78-AF95-4DCA-8993-20A652B2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8F8B-6B15-4883-8231-9B352EA7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B79D-360E-4BE7-B473-CABC1051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5667-0776-4161-827E-3DA0CE40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4985-4A97-4E21-80CA-D9FED925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D253-4C78-4E61-8093-93A45BD0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5ECE-0EF0-4159-810B-222D1C8C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A9E-2AA3-4220-83A7-1E430E4C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CE6-1FC0-4F35-9F19-C750C69A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92AD-4D73-4E6F-A29B-C7808AF4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C5AF-F052-46FD-9338-AC618E31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4FAD-B630-4328-A1B1-0DF8060D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6E82-CE91-4E62-8B83-F98855BF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5CFF-8E86-4B1E-87BD-2832F32A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3F2-0A39-4BA4-AB7A-C5F2A4E9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B61-3A88-41FD-A5E0-7691664C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597-5F3F-43C9-B2B9-6E8FB4DA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4DA-7715-4A15-9F11-0D5415B0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5D5-2DB4-4E5C-9B1F-F1138A5B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E38-C40D-4FA2-A080-D357D29C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D37-11DD-4524-82B8-4E27CDB1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E71A-A268-4437-94B6-7FD3CF3F34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A506-E4B5-431B-8C14-40292EFBE8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Oligopol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295280" y="1676520"/>
                <a:ext cx="41911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295280" y="2971800"/>
            <a:ext cx="723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ts Depend on number of non-sho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dustry Perform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s Depend on number of non-shop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ppers convey a positive externality to the non-shop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-shoppers convey a negative externality on shop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124080" y="2362320"/>
                <a:ext cx="41911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2120" y="1371600"/>
            <a:ext cx="7391160" cy="5105520"/>
            <a:chOff x="762120" y="1371600"/>
            <a:chExt cx="7391160" cy="51055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739116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778200" y="2153160"/>
              <a:ext cx="392256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Expected price for loyal customer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24000" y="5279400"/>
              <a:ext cx="4525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pected price for shop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809880" y="23623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ed price for loyal custome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5181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ed price for shop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rnal Effect of Shopp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66680" y="1600200"/>
            <a:ext cx="7467840" cy="4648320"/>
            <a:chOff x="1066680" y="1600200"/>
            <a:chExt cx="7467840" cy="46483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066680" y="1600200"/>
              <a:ext cx="746784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003120" y="2116440"/>
              <a:ext cx="290412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pected price for loyal custo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03120" y="4828680"/>
              <a:ext cx="235080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pected price for shop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902840" y="2514240"/>
            <a:ext cx="2183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xpected price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loyal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58676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xpected price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hop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di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predictable pr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cery prices vary week to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% price changes co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form for price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ly te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e correlation ov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prices build up consumer inven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nsumer inventories induce high pr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telling Li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98108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 are viewed as located on a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e line represents preferences of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4724280"/>
            <a:ext cx="8228880" cy="1026720"/>
            <a:chOff x="457200" y="4724280"/>
            <a:chExt cx="8228880" cy="1026720"/>
          </a:xfrm>
        </p:grpSpPr>
        <p:grpSp>
          <p:nvGrpSpPr>
            <p:cNvPr id="159" name=""/>
            <p:cNvGrpSpPr/>
            <p:nvPr/>
          </p:nvGrpSpPr>
          <p:grpSpPr>
            <a:xfrm>
              <a:off x="457200" y="5388120"/>
              <a:ext cx="8228880" cy="362880"/>
              <a:chOff x="457200" y="5388120"/>
              <a:chExt cx="8228880" cy="362880"/>
            </a:xfrm>
          </p:grpSpPr>
          <p:sp>
            <p:nvSpPr>
              <p:cNvPr id="160" name=""/>
              <p:cNvSpPr/>
              <p:nvPr/>
            </p:nvSpPr>
            <p:spPr>
              <a:xfrm>
                <a:off x="457200" y="5388120"/>
                <a:ext cx="8149320" cy="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PlaceHolder 2"/>
              <p:cNvSpPr>
                <a:spLocks noGrp="1"/>
              </p:cNvSpPr>
              <p:nvPr>
                <p:ph/>
              </p:nvPr>
            </p:nvSpPr>
            <p:spPr>
              <a:xfrm>
                <a:off x="536760" y="5428800"/>
                <a:ext cx="814932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rmAutofit fontScale="54000"/>
              </a:bodyPr>
              <a:p>
                <a:pPr marL="185040" indent="0" algn="ctr">
                  <a:spcBef>
                    <a:spcPts val="1749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Target Age of Audience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4724280"/>
              <a:ext cx="59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ustomer Ag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ty (“vertical differentiation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s mile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ety (“horizontal differentiation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rcle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96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n locations on unit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ort cos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s minimize cost of purchase plus tran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1371600"/>
            <a:ext cx="7543440" cy="1980720"/>
            <a:chOff x="685800" y="1371600"/>
            <a:chExt cx="7543440" cy="1980720"/>
          </a:xfrm>
        </p:grpSpPr>
        <p:sp>
          <p:nvSpPr>
            <p:cNvPr id="168" name=""/>
            <p:cNvSpPr/>
            <p:nvPr/>
          </p:nvSpPr>
          <p:spPr>
            <a:xfrm>
              <a:off x="685800" y="2560320"/>
              <a:ext cx="749628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1920" y="2757960"/>
              <a:ext cx="76104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31480" y="2361960"/>
              <a:ext cx="0" cy="3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98680" y="2361960"/>
              <a:ext cx="0" cy="3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24960" y="2361960"/>
              <a:ext cx="0" cy="3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98680" y="1965600"/>
              <a:ext cx="3232440" cy="0"/>
            </a:xfrm>
            <a:prstGeom prst="line">
              <a:avLst/>
            </a:prstGeom>
            <a:ln w="63360">
              <a:solidFill>
                <a:srgbClr val="00ff00"/>
              </a:solidFill>
              <a:prstDash val="sysDot"/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31480" y="1965600"/>
              <a:ext cx="3093480" cy="0"/>
            </a:xfrm>
            <a:prstGeom prst="line">
              <a:avLst/>
            </a:prstGeom>
            <a:ln w="63360">
              <a:solidFill>
                <a:srgbClr val="00ff00"/>
              </a:solidFill>
              <a:prstDash val="sysDot"/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56800" y="1371600"/>
              <a:ext cx="1331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ength 1/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74360" y="2757960"/>
              <a:ext cx="76140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8200" y="2757960"/>
              <a:ext cx="76104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3320" y="1371600"/>
              <a:ext cx="1331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ength 1/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termination of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523520"/>
            <a:ext cx="8153280" cy="4727520"/>
            <a:chOff x="304920" y="1523520"/>
            <a:chExt cx="8153280" cy="4727520"/>
          </a:xfrm>
        </p:grpSpPr>
        <p:grpSp>
          <p:nvGrpSpPr>
            <p:cNvPr id="181" name=""/>
            <p:cNvGrpSpPr/>
            <p:nvPr/>
          </p:nvGrpSpPr>
          <p:grpSpPr>
            <a:xfrm>
              <a:off x="533160" y="1523520"/>
              <a:ext cx="7925040" cy="4727520"/>
              <a:chOff x="533160" y="1523520"/>
              <a:chExt cx="7925040" cy="472752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838080" y="5715000"/>
                <a:ext cx="7543800" cy="536040"/>
                <a:chOff x="838080" y="5715000"/>
                <a:chExt cx="7543800" cy="536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838080" y="5715000"/>
                  <a:ext cx="75438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219320" y="57913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1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162920" y="57150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2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 flipV="1">
                <a:off x="1523880" y="3733560"/>
                <a:ext cx="0" cy="198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391520" y="3733560"/>
                <a:ext cx="0" cy="198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38080" y="36576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467480" y="37339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533160" y="1523520"/>
                <a:ext cx="7925040" cy="2210040"/>
                <a:chOff x="533160" y="1523520"/>
                <a:chExt cx="7925040" cy="221004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flipV="1">
                  <a:off x="533160" y="2971440"/>
                  <a:ext cx="990360" cy="76212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1523880" y="1523520"/>
                  <a:ext cx="5562720" cy="221004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1828800" y="1676160"/>
                  <a:ext cx="5562720" cy="205740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7391520" y="2971440"/>
                  <a:ext cx="1066680" cy="76212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533520" y="1981080"/>
                <a:ext cx="198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elivered prices of F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81080" y="2362320"/>
                <a:ext cx="914400" cy="685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00800" y="1905120"/>
                <a:ext cx="175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elivered price2 of F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219320" y="2743200"/>
                <a:ext cx="380880" cy="53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86600" y="2666880"/>
                <a:ext cx="914400" cy="609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00800" y="2666880"/>
                <a:ext cx="533520" cy="53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343400" y="2590920"/>
              <a:ext cx="0" cy="312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5486400"/>
              <a:ext cx="3962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5486400"/>
              <a:ext cx="3962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quilibrium Pr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se all firms but one charg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ining firm charg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librium if profit-maximiz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 who is indifferent is distanc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x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2120" y="4876920"/>
                <a:ext cx="64008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urno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firms, each maximiz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2438280"/>
                <a:ext cx="4762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14400" y="3581280"/>
                <a:ext cx="68580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it Maxim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 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imized 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libriu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447920"/>
                <a:ext cx="54864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00400" y="4952880"/>
                <a:ext cx="3230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90720" y="3352680"/>
                <a:ext cx="78483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its and Effici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s a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y cos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yiel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cost of delivery 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ient number of firms 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 many firm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71800" y="1371600"/>
                <a:ext cx="685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48320" y="2666880"/>
                <a:ext cx="15238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  <m:r>
                          <m:t xml:space="preserve">F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334120" y="3809880"/>
                <a:ext cx="13716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095880" y="4952880"/>
                <a:ext cx="206244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  <m:r>
                          <m:t xml:space="preserve">F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cy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 sets commiss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alar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nt obt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effort in output units, 1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asures the disutility of effort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risk, 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risk prem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06560" y="2708280"/>
                <a:ext cx="472896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t Maxim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rking agent maximiz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effor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yield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ing shares increase eff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ar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set to insure the agent accepts the job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reservation utility level)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98480" y="4800600"/>
                <a:ext cx="77979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½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ary Determi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giv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lary must be higher to compensate for increased risk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200400" y="1523880"/>
                <a:ext cx="44845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½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rm Prof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m ea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rovides the firm with the output, minus the cost of effort, the cost of the agent, and the cost of ris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66680" y="2286000"/>
            <a:ext cx="7075440" cy="2351160"/>
            <a:chOff x="1066680" y="2286000"/>
            <a:chExt cx="7075440" cy="2351160"/>
          </a:xfrm>
        </p:grpSpPr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066680" y="2286000"/>
                  <a:ext cx="32223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1523880" y="2971800"/>
                  <a:ext cx="66182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a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½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λ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1676160" y="3809880"/>
                  <a:ext cx="5006880" cy="8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a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½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λ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rm Maxim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m chooses the agent’s shar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hare increases in the ability 1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agent, and decreases in the riskiness or cost of ris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09680" y="2362320"/>
                <a:ext cx="24814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lection of Ag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nt paid with a combination of salary and com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fixed salary, more able agents obtain a higher retu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offering a higher commission, lower salary will attract more able ag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/M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entives aren’t just about effort, but about agent selection as w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lications of FO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rschman Herfindahl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90920" y="1371600"/>
                <a:ext cx="13716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04920" y="2666880"/>
                <a:ext cx="78483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172200" y="4038480"/>
                <a:ext cx="19810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H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9480" y="5105520"/>
                <a:ext cx="533412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den>
                        </m:f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HI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urno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s a tractable intermediate case between monopoly and compet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xed costs can be used to generate the number of fi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ly used in antitrust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5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ce Disper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ure of law of one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ceries, airline tickets, etc. have high var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attributes to informational or search differ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nsumer buys on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 pric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shoppers, seek best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uy from on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irms (loy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 =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re strategy equilibrium ex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ther beat low price firm or charge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xed Strategy Equilibri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k distrib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r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n others randomize ove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ofits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s are constant to induce random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14400" y="2819520"/>
                <a:ext cx="6019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90720" y="5257800"/>
                <a:ext cx="7391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 randomizes with distrib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the interval [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87520" y="2819520"/>
                <a:ext cx="568476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057400" y="4495680"/>
                <a:ext cx="4343400" cy="20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14T18:13:45Z</dcterms:modified>
  <cp:revision>19</cp:revision>
  <dc:subject/>
  <dc:title>Supply &amp; Demand</dc:title>
</cp:coreProperties>
</file>