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FF7-3138-43C4-A4D7-D69A960E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702-5957-478C-9521-0686CCC6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16D-CFE1-43BA-8BC9-C76CF7EE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9FB-B501-4BDC-9E69-341435B4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4E8-90B1-4942-A773-C74FFAEA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B6B-284F-492B-B67E-ABBB5BAD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B18-DDAC-4BCE-A319-29B9EB64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9D1-D1C2-45A8-9516-AA286203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D95-3CE7-4D19-93CC-D441D614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665-A42D-4533-B528-3093B95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EBF-A481-452C-B273-2918F38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224-BC9F-4A29-954E-BD8EFA4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B03E-990A-43DC-834F-16B96661A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plays H with probabilit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2362320"/>
          <a:ext cx="8077320" cy="3267000"/>
        </p:xfrm>
        <a:graphic>
          <a:graphicData uri="http://schemas.openxmlformats.org/drawingml/2006/table">
            <a:tbl>
              <a:tblPr/>
              <a:tblGrid>
                <a:gridCol w="1036800"/>
                <a:gridCol w="1325520"/>
                <a:gridCol w="1538280"/>
                <a:gridCol w="1249200"/>
                <a:gridCol w="2927520"/>
              </a:tblGrid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E pay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-1(1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(1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Strategy Nash Equilib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 for a player is probabilities over th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probabilities maximize expecte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profits from each action chosen with positive probability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fferent to specific probability valu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ixed = “pure strateg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295280"/>
          <a:ext cx="8305560" cy="4770720"/>
        </p:xfrm>
        <a:graphic>
          <a:graphicData uri="http://schemas.openxmlformats.org/drawingml/2006/table">
            <a:tbl>
              <a:tblPr/>
              <a:tblGrid>
                <a:gridCol w="761760"/>
                <a:gridCol w="1757520"/>
                <a:gridCol w="1758960"/>
                <a:gridCol w="1739880"/>
                <a:gridCol w="2287440"/>
              </a:tblGrid>
              <a:tr h="96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 (prob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 (prob 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’s Expected Pay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 (prob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+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rob 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2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-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’s E Pay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0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3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-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600200"/>
          <a:ext cx="6553080" cy="2070000"/>
        </p:xfrm>
        <a:graphic>
          <a:graphicData uri="http://schemas.openxmlformats.org/drawingml/2006/table">
            <a:tbl>
              <a:tblPr/>
              <a:tblGrid>
                <a:gridCol w="1278000"/>
                <a:gridCol w="1811160"/>
                <a:gridCol w="1893960"/>
                <a:gridCol w="156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r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r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4,-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1371600"/>
          <a:ext cx="7239240" cy="2430360"/>
        </p:xfrm>
        <a:graphic>
          <a:graphicData uri="http://schemas.openxmlformats.org/drawingml/2006/table">
            <a:tbl>
              <a:tblPr/>
              <a:tblGrid>
                <a:gridCol w="1486080"/>
                <a:gridCol w="1765080"/>
                <a:gridCol w="2202120"/>
                <a:gridCol w="1785960"/>
              </a:tblGrid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ing on the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1523880"/>
          <a:ext cx="4953240" cy="2156040"/>
        </p:xfrm>
        <a:graphic>
          <a:graphicData uri="http://schemas.openxmlformats.org/drawingml/2006/table">
            <a:tbl>
              <a:tblPr/>
              <a:tblGrid>
                <a:gridCol w="1033560"/>
                <a:gridCol w="1143000"/>
                <a:gridCol w="1533600"/>
                <a:gridCol w="124308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1676520"/>
          <a:ext cx="7391520" cy="2923920"/>
        </p:xfrm>
        <a:graphic>
          <a:graphicData uri="http://schemas.openxmlformats.org/drawingml/2006/table">
            <a:tbl>
              <a:tblPr/>
              <a:tblGrid>
                <a:gridCol w="654120"/>
                <a:gridCol w="2324160"/>
                <a:gridCol w="2449440"/>
                <a:gridCol w="196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 Reb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,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 Reb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sli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1447920"/>
          <a:ext cx="7391520" cy="2070000"/>
        </p:xfrm>
        <a:graphic>
          <a:graphicData uri="http://schemas.openxmlformats.org/drawingml/2006/table">
            <a:tbl>
              <a:tblPr/>
              <a:tblGrid>
                <a:gridCol w="1558800"/>
                <a:gridCol w="1791000"/>
                <a:gridCol w="2232000"/>
                <a:gridCol w="18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ubli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752480"/>
          <a:ext cx="7086600" cy="2070360"/>
        </p:xfrm>
        <a:graphic>
          <a:graphicData uri="http://schemas.openxmlformats.org/drawingml/2006/table">
            <a:tbl>
              <a:tblPr/>
              <a:tblGrid>
                <a:gridCol w="1272960"/>
                <a:gridCol w="1871640"/>
                <a:gridCol w="2027520"/>
                <a:gridCol w="191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ve Form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84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oner’s Di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1676520"/>
          <a:ext cx="6629400" cy="2860560"/>
        </p:xfrm>
        <a:graphic>
          <a:graphicData uri="http://schemas.openxmlformats.org/drawingml/2006/table">
            <a:tbl>
              <a:tblPr/>
              <a:tblGrid>
                <a:gridCol w="1230480"/>
                <a:gridCol w="1869840"/>
                <a:gridCol w="1935360"/>
                <a:gridCol w="1593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0,-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-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ing LA’s Dominate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110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ed Eliminati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inate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136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7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 given game over and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utt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strategy: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3429000"/>
          <a:ext cx="6172200" cy="2070000"/>
        </p:xfrm>
        <a:graphic>
          <a:graphicData uri="http://schemas.openxmlformats.org/drawingml/2006/table">
            <a:tbl>
              <a:tblPr/>
              <a:tblGrid>
                <a:gridCol w="1571760"/>
                <a:gridCol w="1263600"/>
                <a:gridCol w="1842840"/>
                <a:gridCol w="14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2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m Trigger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e (high price) until rival price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rice low fo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uses grim trigger, should the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off if defect in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3962520"/>
                <a:ext cx="8153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2120" y="4572000"/>
                <a:ext cx="4724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5486400"/>
                <a:ext cx="3627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optim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 best response to the grim trigger strategy is the grim trigger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 is an equilibrium in the supergame supported by the grim trigger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95280" y="1523880"/>
                <a:ext cx="1371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k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utcome is individually rational for a player if it is as good as the payoff in the worst Nash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 theorem: 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igh enough, any outcome that is individually rational for all players is an equilibrium to the super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strategy is best for a player no matter what other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2971800"/>
          <a:ext cx="6629400" cy="2860560"/>
        </p:xfrm>
        <a:graphic>
          <a:graphicData uri="http://schemas.openxmlformats.org/drawingml/2006/table">
            <a:tbl>
              <a:tblPr/>
              <a:tblGrid>
                <a:gridCol w="1230480"/>
                <a:gridCol w="1869840"/>
                <a:gridCol w="1935360"/>
                <a:gridCol w="1593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0,-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-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h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 is a Nash equilibrium if it is the result of strategies such that each player’s strategy maximizes that player’s profits given the strategie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1523880"/>
          <a:ext cx="6172200" cy="2163960"/>
        </p:xfrm>
        <a:graphic>
          <a:graphicData uri="http://schemas.openxmlformats.org/drawingml/2006/table">
            <a:tbl>
              <a:tblPr/>
              <a:tblGrid>
                <a:gridCol w="1158840"/>
                <a:gridCol w="1851120"/>
                <a:gridCol w="1746360"/>
                <a:gridCol w="141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Pen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1523880"/>
          <a:ext cx="5257800" cy="2197080"/>
        </p:xfrm>
        <a:graphic>
          <a:graphicData uri="http://schemas.openxmlformats.org/drawingml/2006/table">
            <a:tbl>
              <a:tblPr/>
              <a:tblGrid>
                <a:gridCol w="1060560"/>
                <a:gridCol w="1352520"/>
                <a:gridCol w="1571400"/>
                <a:gridCol w="1273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4-09-02T18:48:55Z</dcterms:modified>
  <cp:revision>14</cp:revision>
  <dc:subject/>
  <dc:title>Supply &amp; Demand</dc:title>
</cp:coreProperties>
</file>