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62790-4B7A-45F3-B6DD-FF5A7BA73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signal is something that A’s have low cost, B’s have high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not be 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A has low cost, B has high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not be directly 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: University doubles real earnings.  MBA NPV is $1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signals 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roduct line signals commitment to market, therefore support for ol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split gets share price over $1, hurts share price.  Why?  Signals that management has nothing up its sle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d in real world in costly fashion – certification, warran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on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60B-7F98-424F-B176-506CFACE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DAF-1D68-4CD8-9C6E-537E850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230-07B5-49DF-BA05-5BFBC7D5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C0F-C28A-4C47-8803-A81922FA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A1D8-186C-43BF-A3DC-DA3CCE30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98E0-E046-4588-89F6-9126F158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8324-53C3-4AF8-B569-DE23DADC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674-FEA3-4482-8836-41FDA507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A56-5123-4E22-BE4C-B00A41D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9EA5-C7A0-443F-853A-0E5CFD82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FF6-1E65-4077-917E-D3C4CC6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E94-181E-408E-B3A6-7394AB28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0C4-8473-4792-9DDA-47814EAB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5911-4EAA-439E-8C98-BD858186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E44F-897F-4802-93AC-E1E859F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FEAB-8D8B-4CA3-8EF1-DA596089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D0A-5D16-41CB-987A-EF5F322C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DB8-77E3-41FA-A7E0-0AB37254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7B5-A709-4F95-873A-262D5671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A93-F0CE-4AC2-BEE9-8DE4E43A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DB8-46E5-4095-9DDB-B95EF828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EFF-ED27-4B11-951C-84A502B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ECC-7B71-468C-889F-1227BF7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CB0-AC7E-40E9-9FB7-4256896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464-EC7D-487E-9193-2B03B8ED11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E64A-45EB-46AB-8E84-21408494BB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vel Needed to Sign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Q such t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 &gt;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level Q will serve to signal that person is typ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A’s rationally choose to signal, type B’s choose not to sig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ly information trans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nks, insurance companies build enormous buil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arran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igner labe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ory off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ory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enough so that sale is profitabl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f there is repeat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low price may signal low quality, or create expectations of low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: visibly spend money (“burning mone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me Products with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ory Off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tic sea s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ery clea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 preser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ese repel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k plank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Signaling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y deter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in store parad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price signals low cost, bad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prices deter en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of complementary g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not detect source of fail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s: bundling,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on/management signaling patience in a str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ment signals low pro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gway and Solotr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1447920"/>
            <a:ext cx="8229600" cy="4174920"/>
            <a:chOff x="533520" y="1447920"/>
            <a:chExt cx="8229600" cy="4174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rcRect l="0" t="0" r="0" b="1408"/>
            <a:stretch/>
          </p:blipFill>
          <p:spPr>
            <a:xfrm>
              <a:off x="533520" y="1447920"/>
              <a:ext cx="196272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rcRect l="0" t="0" r="0" b="9235"/>
            <a:stretch/>
          </p:blipFill>
          <p:spPr>
            <a:xfrm>
              <a:off x="2511720" y="1447920"/>
              <a:ext cx="267660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202720" y="1447920"/>
              <a:ext cx="356040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obert Thornton, a professor of economics at Lehigh University in Bethlehem, PA, has compiled a list, the Lexicon of Inconspicuously Ambiguous Recommendations, of useful phrases for letters of recommendation on marginally qualified or unqualified candidates. Thornton's AEA listing gives his specialty as Public Employee Bargaining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me examples from LIAR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 a lazy candidate: In my opinion, you will be very fortunate to get this person to work for yo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person who is totally inept: I most enthusiastically recommend this candidate with no qualifications whatsoev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n ex‑employee who had problems getting along with fellow workers: I am pleased to say that this candidate is a former colleague of min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candidate who is so unproductive that the job would be better left unfilled: I can assure you that no person would be better for the job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job applicant who is not worth further consideration: I would urge you to waste no time in making this candidate an offer of employ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person with lackluster credentials: All in all, I cannot say enough good things about this candidate or recommend him too highly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ket for Lem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q of cars uniform on [0,1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ler values car at 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 known only to se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 at 3q/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price p, sellers with cars q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willing to sell, with average quality ½ 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s value such cars at ¾ p &lt; 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asymmetry prevents market from op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erson-Satterthwa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erson Caltech undergrad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terthwaite Caltech P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 value v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 [0,1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 cost 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 [0,1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to arrange trades efficient if trade occurs when v &gt;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ficient Tr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efficient trade, GFT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charges buyer p(v,c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 obtain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,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049480" y="2362320"/>
                <a:ext cx="3978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uyer Prof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 buyer profit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gains from trade go to the buy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3520" y="1523880"/>
                <a:ext cx="7772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5800" y="3581280"/>
                <a:ext cx="77724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erson-Satterthwa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 also gets all GFT (similar argum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t trade im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s tend to understate actual value to improve terms of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s tend to overstate 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 is failure to trade 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 is small in large mar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entially large in small mar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y to have inefficient trade is de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681360" cy="6450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Signal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ypes A,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ivity of A higher than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known, types get wages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gt;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hard to obser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led with education: obtaining education level q costs type i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15T19:33:59Z</dcterms:modified>
  <cp:revision>15</cp:revision>
  <dc:subject/>
  <dc:title>Supply &amp; Demand</dc:title>
</cp:coreProperties>
</file>