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FCAFF-CE9B-44C1-B2D6-7FEE2134A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sumption is price-taking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n’t affect the prices they pay?  Ask fo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decreasing as pass by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from second order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ve the same result – that labor falls as w increases – without 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o ob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enominator is negative from S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of pi with respect to L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C is decreasing if and only if there is a scale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i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s take inputs and produce out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business units may have substantial aut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s have production functions or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we’ll employ views firm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6753-FA7A-4EA0-90E8-0F4036CD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4F9-7240-46BC-9BE7-F46573D8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112-8467-456A-B3EE-A4131F0A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3CE-762A-422A-879F-94BC2F84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E08-855A-4850-9993-3E369133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DEE-1CA3-4903-8085-7227E890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3CE-86D5-4A81-AFD5-019B1793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482-1D7D-441B-A4BB-1C1F64D2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A6A-44A0-4889-AFD9-E9DCEB6F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47C-17D3-47BB-9E2B-165B95A2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BDB-DE1C-4577-83CE-A651FA4D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DBE-2ACE-4286-96A7-65567FFA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6675-048C-4626-BC90-9F855A8BD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ect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exercise 2.6.1.2 (Alarm &amp; Tint, Inc.) was ambiguous: takes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urs for the company to do A instal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al Dep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-253800" y="340200"/>
            <a:ext cx="8974080" cy="8997120"/>
            <a:chOff x="-253800" y="340200"/>
            <a:chExt cx="8974080" cy="8997120"/>
          </a:xfrm>
        </p:grpSpPr>
        <p:sp>
          <p:nvSpPr>
            <p:cNvPr id="85" name=""/>
            <p:cNvSpPr/>
            <p:nvPr/>
          </p:nvSpPr>
          <p:spPr>
            <a:xfrm>
              <a:off x="3809880" y="1782720"/>
              <a:ext cx="0" cy="4130640"/>
            </a:xfrm>
            <a:prstGeom prst="line">
              <a:avLst/>
            </a:prstGeom>
            <a:ln w="93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71640" y="6100920"/>
              <a:ext cx="830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-253800" y="340200"/>
              <a:ext cx="8974080" cy="8997120"/>
              <a:chOff x="-253800" y="340200"/>
              <a:chExt cx="8974080" cy="89971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-253800" y="340200"/>
                <a:ext cx="8974080" cy="8997120"/>
                <a:chOff x="-253800" y="340200"/>
                <a:chExt cx="8974080" cy="89971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62120" y="1406520"/>
                  <a:ext cx="6095520" cy="4883040"/>
                  <a:chOff x="762120" y="1406520"/>
                  <a:chExt cx="6095520" cy="4883040"/>
                </a:xfrm>
              </p:grpSpPr>
              <p:grpSp>
                <p:nvGrpSpPr>
                  <p:cNvPr id="90" name=""/>
                  <p:cNvGrpSpPr/>
                  <p:nvPr/>
                </p:nvGrpSpPr>
                <p:grpSpPr>
                  <a:xfrm>
                    <a:off x="1039680" y="1782720"/>
                    <a:ext cx="4986000" cy="4130640"/>
                    <a:chOff x="1039680" y="1782720"/>
                    <a:chExt cx="4986000" cy="4130640"/>
                  </a:xfrm>
                </p:grpSpPr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1039680" y="1782720"/>
                      <a:ext cx="0" cy="4130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1039680" y="5913360"/>
                      <a:ext cx="4986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" name=""/>
                  <p:cNvSpPr/>
                  <p:nvPr/>
                </p:nvSpPr>
                <p:spPr>
                  <a:xfrm>
                    <a:off x="6303960" y="5726160"/>
                    <a:ext cx="55368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62120" y="1406520"/>
                    <a:ext cx="55368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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-253800" y="340200"/>
                  <a:ext cx="8974080" cy="8997120"/>
                  <a:chOff x="-253800" y="340200"/>
                  <a:chExt cx="8974080" cy="8997120"/>
                </a:xfrm>
              </p:grpSpPr>
              <p:grpSp>
                <p:nvGrpSpPr>
                  <p:cNvPr id="96" name=""/>
                  <p:cNvGrpSpPr/>
                  <p:nvPr/>
                </p:nvGrpSpPr>
                <p:grpSpPr>
                  <a:xfrm>
                    <a:off x="-253800" y="340200"/>
                    <a:ext cx="8974080" cy="8997120"/>
                    <a:chOff x="-253800" y="340200"/>
                    <a:chExt cx="8974080" cy="8997120"/>
                  </a:xfrm>
                </p:grpSpPr>
                <p:grpSp>
                  <p:nvGrpSpPr>
                    <p:cNvPr id="97" name=""/>
                    <p:cNvGrpSpPr/>
                    <p:nvPr/>
                  </p:nvGrpSpPr>
                  <p:grpSpPr>
                    <a:xfrm>
                      <a:off x="-253800" y="340200"/>
                      <a:ext cx="8974080" cy="8997120"/>
                      <a:chOff x="-253800" y="340200"/>
                      <a:chExt cx="8974080" cy="8997120"/>
                    </a:xfrm>
                  </p:grpSpPr>
                  <p:sp>
                    <p:nvSpPr>
                      <p:cNvPr id="98" name=""/>
                      <p:cNvSpPr/>
                      <p:nvPr/>
                    </p:nvSpPr>
                    <p:spPr>
                      <a:xfrm rot="19027800">
                        <a:off x="1162440" y="1550880"/>
                        <a:ext cx="6141240" cy="657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7280" y="590"/>
                            </a:moveTo>
                            <a:arcTo wR="10800" hR="10800" stAng="-6541199" swAng="7065741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7280" y="590"/>
                            </a:moveTo>
                            <a:arcTo wR="10800" hR="10800" stAng="-6541199" swAng="7065741"/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" name=""/>
                      <p:cNvSpPr/>
                      <p:nvPr/>
                    </p:nvSpPr>
                    <p:spPr>
                      <a:xfrm flipV="1">
                        <a:off x="1523880" y="1676520"/>
                        <a:ext cx="1523520" cy="9381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0" name=""/>
                    <p:cNvSpPr/>
                    <p:nvPr/>
                  </p:nvSpPr>
                  <p:spPr>
                    <a:xfrm flipH="1">
                      <a:off x="2591640" y="1617840"/>
                      <a:ext cx="2495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" name=""/>
                  <p:cNvSpPr/>
                  <p:nvPr/>
                </p:nvSpPr>
                <p:spPr>
                  <a:xfrm flipH="1" flipV="1">
                    <a:off x="4647600" y="1544400"/>
                    <a:ext cx="2217600" cy="1127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" name=""/>
                <p:cNvSpPr/>
                <p:nvPr/>
              </p:nvSpPr>
              <p:spPr>
                <a:xfrm>
                  <a:off x="1039680" y="3097080"/>
                  <a:ext cx="2077560" cy="13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lope positive to left of maximu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840040" y="1969920"/>
                  <a:ext cx="2077560" cy="13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lope zero at maximu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363920" y="2720880"/>
                  <a:ext cx="2077560" cy="13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lope negative to right of maximu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 flipV="1">
                <a:off x="2286000" y="2157480"/>
                <a:ext cx="137520" cy="9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3531960" y="1782360"/>
                <a:ext cx="27756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4779720" y="2157120"/>
                <a:ext cx="553680" cy="5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-run Effect of a Wage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" y="1523880"/>
                <a:ext cx="51055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L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9480" y="2895480"/>
                <a:ext cx="579132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ide: Revealed P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aled preference is a powerful technique to prove comparative st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out assumptions about continuity or different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re two wag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repreneur choo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when the wag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n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when the wag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aled Preference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wage =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wage =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thes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33520" y="2286000"/>
                <a:ext cx="67053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3520" y="3429000"/>
                <a:ext cx="6781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3520" y="4572000"/>
                <a:ext cx="79246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800" y="31615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3520" y="5257800"/>
                <a:ext cx="77724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20" y="3655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aled Preference,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l terms to ob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aled preference shows that profit maximization impli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lls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8080" y="2133720"/>
                <a:ext cx="51818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62120" y="3429000"/>
                <a:ext cx="3962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St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ses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omplements, and falls if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3520" y="2209680"/>
                <a:ext cx="5029200" cy="254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K</m:t>
                            </m:r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use has reduced demand for secretarial services (substit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echnology generally has increased demand for high-skill workers (comple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often substitutes for simple labor (tractors, water pipes) and complements skilled labor (operating mach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[T]here's a lot of debate on this subject‑‑‑about what kind of car handles best.  Some say a front‑engined car; some say a rear‑engined car.  I say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.  Nothing handles better than a rented car.  You can go faster, turn corners sharper, and put the transmission into reverse while going forward at a higher rate of speed in a rented car than in any other kind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‑‑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J. O'Rourke, Republican Party Reptile, Atlantic Monthly Press, 198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Assig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picked up outside Baxter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 can be translated into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value of relaxing a constraint is 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adow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cost of fixed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negative if too much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1800" y="3903840"/>
                <a:ext cx="78026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π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firm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s when prices are exog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maximization constrained by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input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st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about individual firm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e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Min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maximization requires minimizing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minimization for fixe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y) = M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bjec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90920" y="5029200"/>
                <a:ext cx="22096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Minimization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maxim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i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is is equivalent to minimizing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minimization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257800" y="2133720"/>
                <a:ext cx="22096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14400" y="4648320"/>
                <a:ext cx="53341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Mi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-971280"/>
            <a:ext cx="13393440" cy="7295400"/>
            <a:chOff x="685800" y="-971280"/>
            <a:chExt cx="13393440" cy="7295400"/>
          </a:xfrm>
        </p:grpSpPr>
        <p:grpSp>
          <p:nvGrpSpPr>
            <p:cNvPr id="155" name=""/>
            <p:cNvGrpSpPr/>
            <p:nvPr/>
          </p:nvGrpSpPr>
          <p:grpSpPr>
            <a:xfrm>
              <a:off x="685800" y="-971280"/>
              <a:ext cx="13393440" cy="7295400"/>
              <a:chOff x="685800" y="-971280"/>
              <a:chExt cx="13393440" cy="72954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685800" y="-971280"/>
                <a:ext cx="13393440" cy="7295400"/>
                <a:chOff x="685800" y="-971280"/>
                <a:chExt cx="13393440" cy="729540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685800" y="1600200"/>
                  <a:ext cx="7848360" cy="4723920"/>
                  <a:chOff x="685800" y="1600200"/>
                  <a:chExt cx="7848360" cy="47239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856080" y="1914840"/>
                    <a:ext cx="0" cy="425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856080" y="6166800"/>
                    <a:ext cx="682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851600" y="6009480"/>
                    <a:ext cx="682560" cy="314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85800" y="1600200"/>
                    <a:ext cx="682560" cy="314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856080" y="-971280"/>
                  <a:ext cx="13223160" cy="7138080"/>
                  <a:chOff x="856080" y="-971280"/>
                  <a:chExt cx="13223160" cy="7138080"/>
                </a:xfrm>
              </p:grpSpPr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1794600" y="-971280"/>
                    <a:ext cx="12284640" cy="6765480"/>
                    <a:chOff x="1794600" y="-971280"/>
                    <a:chExt cx="12284640" cy="676548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 rot="11006400">
                      <a:off x="1965240" y="-618480"/>
                      <a:ext cx="11942640" cy="605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821360" y="5220720"/>
                      <a:ext cx="682560" cy="315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6" name=""/>
                  <p:cNvSpPr/>
                  <p:nvPr/>
                </p:nvSpPr>
                <p:spPr>
                  <a:xfrm>
                    <a:off x="856080" y="4434480"/>
                    <a:ext cx="1876680" cy="173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856080" y="3174840"/>
                    <a:ext cx="3241440" cy="299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856080" y="2072520"/>
                    <a:ext cx="4606920" cy="4094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2562120" y="2072520"/>
                    <a:ext cx="4777200" cy="4094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0" name=""/>
              <p:cNvSpPr/>
              <p:nvPr/>
            </p:nvSpPr>
            <p:spPr>
              <a:xfrm>
                <a:off x="2562480" y="3647160"/>
                <a:ext cx="340920" cy="157320"/>
              </a:xfrm>
              <a:prstGeom prst="star5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294920" y="2057400"/>
              <a:ext cx="7086960" cy="3309480"/>
              <a:chOff x="1294920" y="2057400"/>
              <a:chExt cx="7086960" cy="3309480"/>
            </a:xfrm>
          </p:grpSpPr>
          <p:sp>
            <p:nvSpPr>
              <p:cNvPr id="172" name=""/>
              <p:cNvSpPr/>
              <p:nvPr/>
            </p:nvSpPr>
            <p:spPr>
              <a:xfrm>
                <a:off x="3429000" y="2057400"/>
                <a:ext cx="1828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so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1294920" y="2133720"/>
                <a:ext cx="2210040" cy="1371600"/>
                <a:chOff x="1294920" y="2133720"/>
                <a:chExt cx="2210040" cy="137160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2819160" y="2133720"/>
                  <a:ext cx="609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1294920" y="2133720"/>
                  <a:ext cx="2210040" cy="137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934320" y="4724280"/>
                <a:ext cx="1447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soquant f(K,L)=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un tot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varies, K doe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un margin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ative of cost with respect to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un averag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ver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 at zero, due to 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un average variabl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ver output, omits 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run averag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if diseconomy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ing if economy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economy if,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33520" y="3809880"/>
                <a:ext cx="64767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λ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28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03280" y="4648320"/>
                <a:ext cx="57675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1800" y="3291840"/>
            <a:ext cx="118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590920" y="5486400"/>
                <a:ext cx="43592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λ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VC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ide: Distribution of Profi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Constant Returns to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09480" y="1752480"/>
                <a:ext cx="7467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λ</m:t>
                        </m:r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04920" y="2743200"/>
                <a:ext cx="83055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paying inputs their marginal product uses up the output exactly under constant returns to sc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s efficient decentralization of firm using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ion of Profit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ing Returns to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09480" y="1752480"/>
                <a:ext cx="7467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λ</m:t>
                        </m:r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inputs their marginal product uses is not generally fea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entralization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880" y="2743200"/>
                <a:ext cx="8229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m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8920" y="-1878120"/>
            <a:ext cx="7775280" cy="8158320"/>
            <a:chOff x="88920" y="-1878120"/>
            <a:chExt cx="7775280" cy="8158320"/>
          </a:xfrm>
        </p:grpSpPr>
        <p:grpSp>
          <p:nvGrpSpPr>
            <p:cNvPr id="203" name=""/>
            <p:cNvGrpSpPr/>
            <p:nvPr/>
          </p:nvGrpSpPr>
          <p:grpSpPr>
            <a:xfrm>
              <a:off x="88920" y="-1878120"/>
              <a:ext cx="7340400" cy="7387920"/>
              <a:chOff x="88920" y="-1878120"/>
              <a:chExt cx="7340400" cy="7387920"/>
            </a:xfrm>
          </p:grpSpPr>
          <p:sp>
            <p:nvSpPr>
              <p:cNvPr id="204" name=""/>
              <p:cNvSpPr/>
              <p:nvPr/>
            </p:nvSpPr>
            <p:spPr>
              <a:xfrm rot="8386200">
                <a:off x="824040" y="275760"/>
                <a:ext cx="4995360" cy="410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58120" y="2550600"/>
                <a:ext cx="3372480" cy="2908800"/>
              </a:xfrm>
              <a:custGeom>
                <a:avLst/>
                <a:gdLst/>
                <a:ahLst/>
                <a:rect l="l" t="t" r="r" b="b"/>
                <a:pathLst>
                  <a:path w="3240" h="3060">
                    <a:moveTo>
                      <a:pt x="0" y="3060"/>
                    </a:moveTo>
                    <a:cubicBezTo>
                      <a:pt x="570" y="2865"/>
                      <a:pt x="1140" y="2670"/>
                      <a:pt x="1680" y="2160"/>
                    </a:cubicBezTo>
                    <a:cubicBezTo>
                      <a:pt x="2220" y="1650"/>
                      <a:pt x="2980" y="360"/>
                      <a:pt x="324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8386200">
                <a:off x="1698480" y="-750240"/>
                <a:ext cx="4995360" cy="410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30960" y="2209320"/>
                <a:ext cx="706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RM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55240" y="2721600"/>
                <a:ext cx="665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RA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80800" y="3747240"/>
                <a:ext cx="849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RAV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532440" y="1523880"/>
              <a:ext cx="6499080" cy="4756320"/>
              <a:chOff x="532440" y="1523880"/>
              <a:chExt cx="6499080" cy="475632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783360" y="1523880"/>
                <a:ext cx="5996520" cy="4620240"/>
                <a:chOff x="783360" y="1523880"/>
                <a:chExt cx="5996520" cy="462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83360" y="1523880"/>
                  <a:ext cx="0" cy="462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83360" y="6144120"/>
                  <a:ext cx="5996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6902640" y="59749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32440" y="15238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7029720" y="3225600"/>
              <a:ext cx="83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RA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08280" y="2712240"/>
              <a:ext cx="6620760" cy="912600"/>
            </a:xfrm>
            <a:custGeom>
              <a:avLst/>
              <a:gdLst/>
              <a:ahLst/>
              <a:rect l="l" t="t" r="r" b="b"/>
              <a:pathLst>
                <a:path w="6360" h="960">
                  <a:moveTo>
                    <a:pt x="0" y="0"/>
                  </a:moveTo>
                  <a:cubicBezTo>
                    <a:pt x="850" y="420"/>
                    <a:pt x="1700" y="840"/>
                    <a:pt x="2760" y="900"/>
                  </a:cubicBezTo>
                  <a:cubicBezTo>
                    <a:pt x="3820" y="960"/>
                    <a:pt x="5760" y="450"/>
                    <a:pt x="6360" y="3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 AC implies MC=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57200" y="1905120"/>
                <a:ext cx="78850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u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 shuts down when price &lt; averag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 shuts down in short run when price &lt; short run average cost = min average variabl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 exits in long run when price &lt; long run average cost = min average tot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Fi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orship, e.g. family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, e.g. law, accounting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iability by shar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“pers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d by agents of shar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rofit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certain activities achieve tax-free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m Reaction to Price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34680" y="-2462760"/>
            <a:ext cx="8165880" cy="8519400"/>
            <a:chOff x="634680" y="-2462760"/>
            <a:chExt cx="8165880" cy="8519400"/>
          </a:xfrm>
        </p:grpSpPr>
        <p:grpSp>
          <p:nvGrpSpPr>
            <p:cNvPr id="225" name=""/>
            <p:cNvGrpSpPr/>
            <p:nvPr/>
          </p:nvGrpSpPr>
          <p:grpSpPr>
            <a:xfrm>
              <a:off x="634680" y="-2462760"/>
              <a:ext cx="8165880" cy="8519400"/>
              <a:chOff x="634680" y="-2462760"/>
              <a:chExt cx="8165880" cy="85194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1057680" y="4403160"/>
                <a:ext cx="25160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634680" y="-2462760"/>
                <a:ext cx="8165880" cy="8519400"/>
                <a:chOff x="634680" y="-2462760"/>
                <a:chExt cx="8165880" cy="851940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634680" y="-2462760"/>
                  <a:ext cx="8165880" cy="7918920"/>
                  <a:chOff x="634680" y="-2462760"/>
                  <a:chExt cx="8165880" cy="79189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8386200">
                    <a:off x="1239480" y="-18720"/>
                    <a:ext cx="5919840" cy="4041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1502280" y="2381760"/>
                    <a:ext cx="3996720" cy="28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240" h="3060">
                        <a:moveTo>
                          <a:pt x="0" y="3060"/>
                        </a:moveTo>
                        <a:cubicBezTo>
                          <a:pt x="570" y="2865"/>
                          <a:pt x="1140" y="2670"/>
                          <a:pt x="1680" y="2160"/>
                        </a:cubicBezTo>
                        <a:cubicBezTo>
                          <a:pt x="2220" y="1650"/>
                          <a:pt x="2980" y="360"/>
                          <a:pt x="324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8386200">
                    <a:off x="2275560" y="-1028880"/>
                    <a:ext cx="5919840" cy="4041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497200" y="2044800"/>
                    <a:ext cx="3952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6832440" y="2549160"/>
                    <a:ext cx="5097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T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793840" y="3562560"/>
                    <a:ext cx="5385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V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61040" y="1371600"/>
                  <a:ext cx="7677360" cy="4685040"/>
                  <a:chOff x="761040" y="1371600"/>
                  <a:chExt cx="7677360" cy="4685040"/>
                </a:xfrm>
              </p:grpSpPr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1058040" y="1371600"/>
                    <a:ext cx="7105680" cy="4547160"/>
                    <a:chOff x="1058040" y="1371600"/>
                    <a:chExt cx="7105680" cy="454716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058040" y="1371600"/>
                      <a:ext cx="0" cy="4547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1058040" y="5918760"/>
                      <a:ext cx="7105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8309520" y="575136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1040" y="137160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1502280" y="2382120"/>
                  <a:ext cx="3997080" cy="3254040"/>
                  <a:chOff x="1502280" y="2382120"/>
                  <a:chExt cx="3997080" cy="325404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1502280" y="2382120"/>
                    <a:ext cx="3997080" cy="28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40" h="3060">
                        <a:moveTo>
                          <a:pt x="0" y="3060"/>
                        </a:moveTo>
                        <a:cubicBezTo>
                          <a:pt x="570" y="2865"/>
                          <a:pt x="1140" y="2670"/>
                          <a:pt x="1680" y="2160"/>
                        </a:cubicBezTo>
                        <a:cubicBezTo>
                          <a:pt x="2220" y="1650"/>
                          <a:pt x="2980" y="360"/>
                          <a:pt x="3240" y="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1502280" y="4457160"/>
                    <a:ext cx="2812320" cy="1179000"/>
                  </a:xfrm>
                  <a:prstGeom prst="rect">
                    <a:avLst/>
                  </a:prstGeom>
                  <a:solidFill>
                    <a:srgbClr val="ffffff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4" name=""/>
            <p:cNvSpPr/>
            <p:nvPr/>
          </p:nvSpPr>
          <p:spPr>
            <a:xfrm flipH="1">
              <a:off x="1447560" y="2514600"/>
              <a:ext cx="6094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7400" y="2514600"/>
              <a:ext cx="297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00200" y="190512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t run supp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0880" y="1447920"/>
            <a:ext cx="8243280" cy="4952520"/>
            <a:chOff x="380880" y="1447920"/>
            <a:chExt cx="8243280" cy="4952520"/>
          </a:xfrm>
        </p:grpSpPr>
        <p:sp>
          <p:nvSpPr>
            <p:cNvPr id="249" name=""/>
            <p:cNvSpPr/>
            <p:nvPr/>
          </p:nvSpPr>
          <p:spPr>
            <a:xfrm>
              <a:off x="4662720" y="3086640"/>
              <a:ext cx="0" cy="281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36720" y="6069240"/>
              <a:ext cx="503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631800" y="1447920"/>
              <a:ext cx="7992360" cy="4623120"/>
              <a:chOff x="631800" y="1447920"/>
              <a:chExt cx="7992360" cy="462312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31800" y="1456920"/>
                <a:ext cx="6607800" cy="4614120"/>
                <a:chOff x="631800" y="1456920"/>
                <a:chExt cx="6607800" cy="461412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884520" y="1456920"/>
                  <a:ext cx="6044760" cy="4473720"/>
                  <a:chOff x="884520" y="1456920"/>
                  <a:chExt cx="6044760" cy="44737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884520" y="1456920"/>
                    <a:ext cx="0" cy="4473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884520" y="5930640"/>
                    <a:ext cx="6044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7054560" y="5765760"/>
                  <a:ext cx="1850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31800" y="145692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7180200" y="3105000"/>
                <a:ext cx="1443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RATC=L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10160" y="3105000"/>
                <a:ext cx="692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151080" y="1447920"/>
                <a:ext cx="3652200" cy="397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26760" y="525996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010160" y="1447920"/>
                <a:ext cx="5363280" cy="2650680"/>
                <a:chOff x="1010160" y="1447920"/>
                <a:chExt cx="5363280" cy="265068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1010160" y="1613160"/>
                  <a:ext cx="4785120" cy="2485440"/>
                  <a:chOff x="1010160" y="1613160"/>
                  <a:chExt cx="4785120" cy="24854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1010160" y="4098600"/>
                    <a:ext cx="2896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3906360" y="1613160"/>
                    <a:ext cx="1888920" cy="24850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5920200" y="1447920"/>
                  <a:ext cx="453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>
              <a:off x="380880" y="2920680"/>
              <a:ext cx="503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 in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80880" y="1523880"/>
            <a:ext cx="8119080" cy="4706280"/>
            <a:chOff x="380880" y="1523880"/>
            <a:chExt cx="8119080" cy="4706280"/>
          </a:xfrm>
        </p:grpSpPr>
        <p:grpSp>
          <p:nvGrpSpPr>
            <p:cNvPr id="270" name=""/>
            <p:cNvGrpSpPr/>
            <p:nvPr/>
          </p:nvGrpSpPr>
          <p:grpSpPr>
            <a:xfrm>
              <a:off x="380880" y="1523880"/>
              <a:ext cx="8119080" cy="4706280"/>
              <a:chOff x="380880" y="1523880"/>
              <a:chExt cx="8119080" cy="4706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380880" y="1523880"/>
                <a:ext cx="8119080" cy="4706280"/>
                <a:chOff x="380880" y="1523880"/>
                <a:chExt cx="8119080" cy="470628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380880" y="1523880"/>
                  <a:ext cx="8119080" cy="4647960"/>
                  <a:chOff x="380880" y="1523880"/>
                  <a:chExt cx="8119080" cy="464796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998640" y="3375360"/>
                    <a:ext cx="67982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380880" y="1968840"/>
                    <a:ext cx="8119080" cy="4203000"/>
                    <a:chOff x="380880" y="1968840"/>
                    <a:chExt cx="8119080" cy="420300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583520" y="3359520"/>
                      <a:ext cx="0" cy="2390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056000" y="3375000"/>
                      <a:ext cx="144396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ATC=L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7" name=""/>
                    <p:cNvGrpSpPr/>
                    <p:nvPr/>
                  </p:nvGrpSpPr>
                  <p:grpSpPr>
                    <a:xfrm>
                      <a:off x="380880" y="1968840"/>
                      <a:ext cx="6689160" cy="4203000"/>
                      <a:chOff x="380880" y="1968840"/>
                      <a:chExt cx="6689160" cy="4203000"/>
                    </a:xfrm>
                  </p:grpSpPr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4459680" y="5890680"/>
                        <a:ext cx="493920" cy="281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Q</a:t>
                        </a:r>
                        <a:r>
                          <a:rPr b="0" lang="en-US" sz="20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9" name=""/>
                      <p:cNvGrpSpPr/>
                      <p:nvPr/>
                    </p:nvGrpSpPr>
                    <p:grpSpPr>
                      <a:xfrm>
                        <a:off x="627120" y="1976400"/>
                        <a:ext cx="6414120" cy="3840480"/>
                        <a:chOff x="627120" y="1976400"/>
                        <a:chExt cx="6414120" cy="3840480"/>
                      </a:xfrm>
                    </p:grpSpPr>
                    <p:grpSp>
                      <p:nvGrpSpPr>
                        <p:cNvPr id="280" name=""/>
                        <p:cNvGrpSpPr/>
                        <p:nvPr/>
                      </p:nvGrpSpPr>
                      <p:grpSpPr>
                        <a:xfrm>
                          <a:off x="875160" y="1976400"/>
                          <a:ext cx="5932800" cy="3797280"/>
                          <a:chOff x="875160" y="1976400"/>
                          <a:chExt cx="5932800" cy="3797280"/>
                        </a:xfrm>
                      </p:grpSpPr>
                      <p:sp>
                        <p:nvSpPr>
                          <p:cNvPr id="281" name=""/>
                          <p:cNvSpPr/>
                          <p:nvPr/>
                        </p:nvSpPr>
                        <p:spPr>
                          <a:xfrm>
                            <a:off x="875160" y="1976400"/>
                            <a:ext cx="0" cy="379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2" name=""/>
                          <p:cNvSpPr/>
                          <p:nvPr/>
                        </p:nvSpPr>
                        <p:spPr>
                          <a:xfrm>
                            <a:off x="875160" y="5773680"/>
                            <a:ext cx="5932800" cy="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>
                          <a:off x="6930720" y="5634000"/>
                          <a:ext cx="110520" cy="182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Q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>
                          <a:off x="627120" y="1976400"/>
                          <a:ext cx="142560" cy="305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P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3099960" y="1968840"/>
                        <a:ext cx="3584520" cy="3375000"/>
                      </a:xfrm>
                      <a:prstGeom prst="line">
                        <a:avLst/>
                      </a:prstGeom>
                      <a:ln w="255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6810480" y="5204160"/>
                        <a:ext cx="259560" cy="347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r>
                          <a:rPr b="0" lang="en-US" sz="20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7" name=""/>
                      <p:cNvGrpSpPr/>
                      <p:nvPr/>
                    </p:nvGrpSpPr>
                    <p:grpSpPr>
                      <a:xfrm>
                        <a:off x="998640" y="1968840"/>
                        <a:ext cx="5351400" cy="2249640"/>
                        <a:chOff x="998640" y="1968840"/>
                        <a:chExt cx="5351400" cy="2249640"/>
                      </a:xfrm>
                    </p:grpSpPr>
                    <p:grpSp>
                      <p:nvGrpSpPr>
                        <p:cNvPr id="288" name=""/>
                        <p:cNvGrpSpPr/>
                        <p:nvPr/>
                      </p:nvGrpSpPr>
                      <p:grpSpPr>
                        <a:xfrm>
                          <a:off x="998640" y="2108880"/>
                          <a:ext cx="4696200" cy="2109600"/>
                          <a:chOff x="998640" y="2108880"/>
                          <a:chExt cx="4696200" cy="2109600"/>
                        </a:xfrm>
                      </p:grpSpPr>
                      <p:sp>
                        <p:nvSpPr>
                          <p:cNvPr id="289" name=""/>
                          <p:cNvSpPr/>
                          <p:nvPr/>
                        </p:nvSpPr>
                        <p:spPr>
                          <a:xfrm>
                            <a:off x="998640" y="4218480"/>
                            <a:ext cx="284256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"/>
                          <p:cNvSpPr/>
                          <p:nvPr/>
                        </p:nvSpPr>
                        <p:spPr>
                          <a:xfrm flipV="1">
                            <a:off x="3841200" y="2108880"/>
                            <a:ext cx="1853640" cy="210924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>
                          <a:off x="5822280" y="1968840"/>
                          <a:ext cx="527760" cy="347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RS</a:t>
                          </a:r>
                          <a:r>
                            <a:rPr b="0" lang="en-US" sz="2000" spc="-1" strike="noStrike" baseline="-25000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0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380880" y="3218760"/>
                        <a:ext cx="494280" cy="281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P</a:t>
                        </a:r>
                        <a:r>
                          <a:rPr b="0" lang="en-US" sz="20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93" name=""/>
                  <p:cNvSpPr/>
                  <p:nvPr/>
                </p:nvSpPr>
                <p:spPr>
                  <a:xfrm>
                    <a:off x="4212720" y="1523880"/>
                    <a:ext cx="3584520" cy="3375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7800120" y="4757760"/>
                    <a:ext cx="259560" cy="34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 flipV="1">
                  <a:off x="4583520" y="2508120"/>
                  <a:ext cx="741600" cy="843840"/>
                </a:xfrm>
                <a:prstGeom prst="line">
                  <a:avLst/>
                </a:prstGeom>
                <a:ln w="76320">
                  <a:solidFill>
                    <a:srgbClr val="969696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874800" y="2508120"/>
                  <a:ext cx="444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325120" y="2508120"/>
                  <a:ext cx="0" cy="323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07960" y="2366640"/>
                  <a:ext cx="21708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204160" y="5883120"/>
                  <a:ext cx="25956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5325120" y="2508120"/>
                <a:ext cx="865080" cy="843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90560" y="3351960"/>
                <a:ext cx="0" cy="239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69240" y="5883120"/>
                <a:ext cx="2595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H="1">
              <a:off x="5448960" y="2367360"/>
              <a:ext cx="1730160" cy="182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1920" y="4218480"/>
              <a:ext cx="160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2360" y="2226960"/>
              <a:ext cx="527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R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Decrease in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04560" y="1676160"/>
            <a:ext cx="8295840" cy="4689000"/>
            <a:chOff x="304560" y="1676160"/>
            <a:chExt cx="8295840" cy="4689000"/>
          </a:xfrm>
        </p:grpSpPr>
        <p:grpSp>
          <p:nvGrpSpPr>
            <p:cNvPr id="308" name=""/>
            <p:cNvGrpSpPr/>
            <p:nvPr/>
          </p:nvGrpSpPr>
          <p:grpSpPr>
            <a:xfrm>
              <a:off x="304560" y="1676160"/>
              <a:ext cx="8295840" cy="4689000"/>
              <a:chOff x="304560" y="1676160"/>
              <a:chExt cx="8295840" cy="468900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304560" y="1676160"/>
                <a:ext cx="8295840" cy="4689000"/>
                <a:chOff x="304560" y="1676160"/>
                <a:chExt cx="8295840" cy="468900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304560" y="1694880"/>
                  <a:ext cx="8295840" cy="4670280"/>
                  <a:chOff x="304560" y="1694880"/>
                  <a:chExt cx="8295840" cy="467028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7984440" y="6059880"/>
                    <a:ext cx="18504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304560" y="1694880"/>
                    <a:ext cx="8295840" cy="4529160"/>
                    <a:chOff x="304560" y="1694880"/>
                    <a:chExt cx="8295840" cy="452916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304560" y="1749960"/>
                      <a:ext cx="14256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14" name=""/>
                    <p:cNvGrpSpPr/>
                    <p:nvPr/>
                  </p:nvGrpSpPr>
                  <p:grpSpPr>
                    <a:xfrm>
                      <a:off x="605880" y="1694880"/>
                      <a:ext cx="7994520" cy="4529160"/>
                      <a:chOff x="605880" y="1694880"/>
                      <a:chExt cx="7994520" cy="4529160"/>
                    </a:xfrm>
                  </p:grpSpPr>
                  <p:grpSp>
                    <p:nvGrpSpPr>
                      <p:cNvPr id="315" name=""/>
                      <p:cNvGrpSpPr/>
                      <p:nvPr/>
                    </p:nvGrpSpPr>
                    <p:grpSpPr>
                      <a:xfrm>
                        <a:off x="605880" y="1749960"/>
                        <a:ext cx="7227720" cy="4474080"/>
                        <a:chOff x="605880" y="1749960"/>
                        <a:chExt cx="7227720" cy="4474080"/>
                      </a:xfrm>
                    </p:grpSpPr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>
                          <a:off x="605880" y="1749960"/>
                          <a:ext cx="0" cy="4474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>
                          <a:off x="605880" y="6224040"/>
                          <a:ext cx="72277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6632280" y="1740960"/>
                        <a:ext cx="527760" cy="347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RS</a:t>
                        </a:r>
                        <a:r>
                          <a:rPr b="0" lang="en-US" sz="20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19" name=""/>
                      <p:cNvGrpSpPr/>
                      <p:nvPr/>
                    </p:nvGrpSpPr>
                    <p:grpSpPr>
                      <a:xfrm>
                        <a:off x="756000" y="1694880"/>
                        <a:ext cx="7844400" cy="4205160"/>
                        <a:chOff x="756000" y="1694880"/>
                        <a:chExt cx="7844400" cy="4205160"/>
                      </a:xfrm>
                    </p:grpSpPr>
                    <p:grpSp>
                      <p:nvGrpSpPr>
                        <p:cNvPr id="320" name=""/>
                        <p:cNvGrpSpPr/>
                        <p:nvPr/>
                      </p:nvGrpSpPr>
                      <p:grpSpPr>
                        <a:xfrm>
                          <a:off x="756360" y="3398040"/>
                          <a:ext cx="7844040" cy="305280"/>
                          <a:chOff x="756360" y="3398040"/>
                          <a:chExt cx="7844040" cy="305280"/>
                        </a:xfrm>
                      </p:grpSpPr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>
                            <a:off x="756360" y="3398040"/>
                            <a:ext cx="776988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>
                            <a:off x="8133480" y="3398040"/>
                            <a:ext cx="466920" cy="305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LRS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3315960" y="1740960"/>
                          <a:ext cx="4780440" cy="4159080"/>
                          <a:chOff x="3315960" y="1740960"/>
                          <a:chExt cx="4780440" cy="4159080"/>
                        </a:xfrm>
                      </p:grpSpPr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>
                            <a:off x="3315960" y="1740960"/>
                            <a:ext cx="4366800" cy="3976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"/>
                          <p:cNvSpPr/>
                          <p:nvPr/>
                        </p:nvSpPr>
                        <p:spPr>
                          <a:xfrm>
                            <a:off x="7836840" y="5553000"/>
                            <a:ext cx="259560" cy="347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D</a:t>
                            </a:r>
                            <a:r>
                              <a:rPr b="0" lang="en-US" sz="2000" spc="-1" strike="noStrike" baseline="-25000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0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756360" y="1906200"/>
                          <a:ext cx="5721480" cy="2486160"/>
                          <a:chOff x="756360" y="1906200"/>
                          <a:chExt cx="5721480" cy="2486160"/>
                        </a:xfrm>
                      </p:grpSpPr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>
                            <a:off x="756360" y="4392360"/>
                            <a:ext cx="346320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 flipV="1">
                            <a:off x="4219560" y="1906200"/>
                            <a:ext cx="2258280" cy="248580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9" name=""/>
                        <p:cNvGrpSpPr/>
                        <p:nvPr/>
                      </p:nvGrpSpPr>
                      <p:grpSpPr>
                        <a:xfrm>
                          <a:off x="906840" y="2854800"/>
                          <a:ext cx="2973240" cy="2833560"/>
                          <a:chOff x="906840" y="2854800"/>
                          <a:chExt cx="2973240" cy="2833560"/>
                        </a:xfrm>
                      </p:grpSpPr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>
                            <a:off x="906840" y="2854800"/>
                            <a:ext cx="2710080" cy="265140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/>
                          <p:nvPr/>
                        </p:nvSpPr>
                        <p:spPr>
                          <a:xfrm>
                            <a:off x="3620520" y="5341320"/>
                            <a:ext cx="259560" cy="347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D</a:t>
                            </a:r>
                            <a:r>
                              <a:rPr b="0" lang="en-US" sz="2000" spc="-1" strike="noStrike" baseline="-25000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2" name=""/>
                        <p:cNvGrpSpPr/>
                        <p:nvPr/>
                      </p:nvGrpSpPr>
                      <p:grpSpPr>
                        <a:xfrm>
                          <a:off x="756000" y="1694880"/>
                          <a:ext cx="4748040" cy="2651400"/>
                          <a:chOff x="756000" y="1694880"/>
                          <a:chExt cx="4748040" cy="2651400"/>
                        </a:xfrm>
                      </p:grpSpPr>
                      <p:sp>
                        <p:nvSpPr>
                          <p:cNvPr id="333" name=""/>
                          <p:cNvSpPr/>
                          <p:nvPr/>
                        </p:nvSpPr>
                        <p:spPr>
                          <a:xfrm>
                            <a:off x="4976280" y="1694880"/>
                            <a:ext cx="527760" cy="347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SRS</a:t>
                            </a:r>
                            <a:r>
                              <a:rPr b="0" lang="en-US" sz="2000" spc="-1" strike="noStrike" baseline="-25000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4" name=""/>
                          <p:cNvSpPr/>
                          <p:nvPr/>
                        </p:nvSpPr>
                        <p:spPr>
                          <a:xfrm flipV="1">
                            <a:off x="2496600" y="1860480"/>
                            <a:ext cx="2409120" cy="248544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5" name=""/>
                          <p:cNvSpPr/>
                          <p:nvPr/>
                        </p:nvSpPr>
                        <p:spPr>
                          <a:xfrm flipH="1">
                            <a:off x="756000" y="4346280"/>
                            <a:ext cx="165636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sp>
              <p:nvSpPr>
                <p:cNvPr id="336" name=""/>
                <p:cNvSpPr/>
                <p:nvPr/>
              </p:nvSpPr>
              <p:spPr>
                <a:xfrm flipV="1">
                  <a:off x="907200" y="1676160"/>
                  <a:ext cx="1656360" cy="2651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265480" y="2173320"/>
                  <a:ext cx="52776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RS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1219320" y="3276720"/>
                <a:ext cx="3733200" cy="2395080"/>
                <a:chOff x="1219320" y="3276720"/>
                <a:chExt cx="3733200" cy="2395080"/>
              </a:xfrm>
            </p:grpSpPr>
            <p:sp>
              <p:nvSpPr>
                <p:cNvPr id="339" name=""/>
                <p:cNvSpPr/>
                <p:nvPr/>
              </p:nvSpPr>
              <p:spPr>
                <a:xfrm flipH="1">
                  <a:off x="4800240" y="3581280"/>
                  <a:ext cx="152280" cy="152640"/>
                </a:xfrm>
                <a:prstGeom prst="line">
                  <a:avLst/>
                </a:prstGeom>
                <a:ln w="63360">
                  <a:solidFill>
                    <a:srgbClr val="80808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>
                  <a:off x="4495680" y="3962520"/>
                  <a:ext cx="152640" cy="152280"/>
                </a:xfrm>
                <a:prstGeom prst="line">
                  <a:avLst/>
                </a:prstGeom>
                <a:ln w="63360">
                  <a:solidFill>
                    <a:srgbClr val="80808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3657600" y="4359240"/>
                  <a:ext cx="380880" cy="0"/>
                </a:xfrm>
                <a:prstGeom prst="line">
                  <a:avLst/>
                </a:prstGeom>
                <a:ln w="63360">
                  <a:solidFill>
                    <a:srgbClr val="80808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2819520" y="4419720"/>
                  <a:ext cx="380880" cy="0"/>
                </a:xfrm>
                <a:prstGeom prst="line">
                  <a:avLst/>
                </a:prstGeom>
                <a:ln w="63360">
                  <a:solidFill>
                    <a:srgbClr val="80808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1600200" y="4648320"/>
                  <a:ext cx="609480" cy="761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219320" y="5029200"/>
                  <a:ext cx="16761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R adjustm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295280" y="3276720"/>
                  <a:ext cx="304920" cy="368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86000" y="4191120"/>
                  <a:ext cx="304920" cy="368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7" name=""/>
            <p:cNvSpPr/>
            <p:nvPr/>
          </p:nvSpPr>
          <p:spPr>
            <a:xfrm flipH="1" flipV="1">
              <a:off x="2057040" y="3962160"/>
              <a:ext cx="152280" cy="152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1752480" y="3657240"/>
              <a:ext cx="152640" cy="152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Economy of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 of the industry may affect individual fir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of scale in inpu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ding up price of scarc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economy of scale means LRATC is decreasing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Long-run 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38080" y="1447920"/>
            <a:ext cx="8076600" cy="5104080"/>
            <a:chOff x="838080" y="1447920"/>
            <a:chExt cx="8076600" cy="5104080"/>
          </a:xfrm>
        </p:grpSpPr>
        <p:grpSp>
          <p:nvGrpSpPr>
            <p:cNvPr id="353" name=""/>
            <p:cNvGrpSpPr/>
            <p:nvPr/>
          </p:nvGrpSpPr>
          <p:grpSpPr>
            <a:xfrm>
              <a:off x="2036160" y="1447920"/>
              <a:ext cx="3092400" cy="4266000"/>
              <a:chOff x="2036160" y="1447920"/>
              <a:chExt cx="3092400" cy="4266000"/>
            </a:xfrm>
          </p:grpSpPr>
          <p:sp>
            <p:nvSpPr>
              <p:cNvPr id="354" name=""/>
              <p:cNvSpPr/>
              <p:nvPr/>
            </p:nvSpPr>
            <p:spPr>
              <a:xfrm>
                <a:off x="4565160" y="1447920"/>
                <a:ext cx="563400" cy="5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R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435400" y="1614240"/>
                <a:ext cx="1996920" cy="250308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2036160" y="1864800"/>
                <a:ext cx="3002400" cy="3849120"/>
                <a:chOff x="2036160" y="1864800"/>
                <a:chExt cx="3002400" cy="3849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036160" y="1864800"/>
                  <a:ext cx="2395800" cy="3504600"/>
                </a:xfrm>
                <a:prstGeom prst="line">
                  <a:avLst/>
                </a:prstGeom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431960" y="5202360"/>
                  <a:ext cx="606600" cy="51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RD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9" name=""/>
            <p:cNvGrpSpPr/>
            <p:nvPr/>
          </p:nvGrpSpPr>
          <p:grpSpPr>
            <a:xfrm>
              <a:off x="838080" y="1948320"/>
              <a:ext cx="8076600" cy="4603680"/>
              <a:chOff x="838080" y="1948320"/>
              <a:chExt cx="8076600" cy="460368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2169360" y="1987920"/>
                <a:ext cx="6612480" cy="3849120"/>
                <a:chOff x="2169360" y="1987920"/>
                <a:chExt cx="6612480" cy="3849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8159760" y="4991760"/>
                  <a:ext cx="6220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LRD</a:t>
                  </a:r>
                  <a:r>
                    <a:rPr b="0" lang="en-US" sz="2000" spc="-1" strike="noStrike" baseline="-25000">
                      <a:solidFill>
                        <a:srgbClr val="c0c0c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169360" y="1987920"/>
                  <a:ext cx="5990400" cy="317088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032720" y="1987920"/>
                  <a:ext cx="2396160" cy="350424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429240" y="5325480"/>
                  <a:ext cx="606600" cy="51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SRD</a:t>
                  </a:r>
                  <a:r>
                    <a:rPr b="0" lang="en-US" sz="2000" spc="-1" strike="noStrike" baseline="-25000">
                      <a:solidFill>
                        <a:srgbClr val="c0c0c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838080" y="1948320"/>
                <a:ext cx="8076600" cy="4603680"/>
                <a:chOff x="838080" y="1948320"/>
                <a:chExt cx="8076600" cy="4603680"/>
              </a:xfrm>
            </p:grpSpPr>
            <p:grpSp>
              <p:nvGrpSpPr>
                <p:cNvPr id="366" name=""/>
                <p:cNvGrpSpPr/>
                <p:nvPr/>
              </p:nvGrpSpPr>
              <p:grpSpPr>
                <a:xfrm>
                  <a:off x="838080" y="1948320"/>
                  <a:ext cx="8076600" cy="4603680"/>
                  <a:chOff x="838080" y="1948320"/>
                  <a:chExt cx="8076600" cy="4603680"/>
                </a:xfrm>
              </p:grpSpPr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838080" y="1948320"/>
                    <a:ext cx="8076600" cy="4603680"/>
                    <a:chOff x="838080" y="1948320"/>
                    <a:chExt cx="8076600" cy="4603680"/>
                  </a:xfrm>
                </p:grpSpPr>
                <p:grpSp>
                  <p:nvGrpSpPr>
                    <p:cNvPr id="368" name=""/>
                    <p:cNvGrpSpPr/>
                    <p:nvPr/>
                  </p:nvGrpSpPr>
                  <p:grpSpPr>
                    <a:xfrm>
                      <a:off x="838080" y="1957320"/>
                      <a:ext cx="6981840" cy="4594680"/>
                      <a:chOff x="838080" y="1957320"/>
                      <a:chExt cx="6981840" cy="4594680"/>
                    </a:xfrm>
                  </p:grpSpPr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7627320" y="6296400"/>
                        <a:ext cx="192600" cy="255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Q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838080" y="1957320"/>
                        <a:ext cx="148320" cy="255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P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1104120" y="1957320"/>
                        <a:ext cx="0" cy="4505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1104120" y="6463080"/>
                        <a:ext cx="63896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3" name=""/>
                    <p:cNvGrpSpPr/>
                    <p:nvPr/>
                  </p:nvGrpSpPr>
                  <p:grpSpPr>
                    <a:xfrm>
                      <a:off x="6429240" y="1948320"/>
                      <a:ext cx="1819800" cy="2180160"/>
                      <a:chOff x="6429240" y="1948320"/>
                      <a:chExt cx="1819800" cy="2180160"/>
                    </a:xfrm>
                  </p:grpSpPr>
                  <p:sp>
                    <p:nvSpPr>
                      <p:cNvPr id="374" name=""/>
                      <p:cNvSpPr/>
                      <p:nvPr/>
                    </p:nvSpPr>
                    <p:spPr>
                      <a:xfrm>
                        <a:off x="6429240" y="1948320"/>
                        <a:ext cx="563400" cy="511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999999"/>
                            </a:solidFill>
                            <a:latin typeface="Times New Roman"/>
                          </a:rPr>
                          <a:t>SRS</a:t>
                        </a:r>
                        <a:r>
                          <a:rPr b="0" lang="en-US" sz="2000" spc="-1" strike="noStrike" baseline="-25000">
                            <a:solidFill>
                              <a:srgbClr val="999999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7760160" y="3616920"/>
                        <a:ext cx="488880" cy="511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LRS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6" name=""/>
                    <p:cNvSpPr/>
                    <p:nvPr/>
                  </p:nvSpPr>
                  <p:spPr>
                    <a:xfrm flipV="1">
                      <a:off x="4299120" y="2114640"/>
                      <a:ext cx="1996920" cy="2503080"/>
                    </a:xfrm>
                    <a:prstGeom prst="line">
                      <a:avLst/>
                    </a:prstGeom>
                    <a:ln w="25560">
                      <a:solidFill>
                        <a:srgbClr val="969696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1503720" y="3033000"/>
                      <a:ext cx="6789240" cy="10011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8" name=""/>
                    <p:cNvGrpSpPr/>
                    <p:nvPr/>
                  </p:nvGrpSpPr>
                  <p:grpSpPr>
                    <a:xfrm>
                      <a:off x="2302200" y="2365200"/>
                      <a:ext cx="6612480" cy="3849840"/>
                      <a:chOff x="2302200" y="2365200"/>
                      <a:chExt cx="6612480" cy="3849840"/>
                    </a:xfrm>
                  </p:grpSpPr>
                  <p:grpSp>
                    <p:nvGrpSpPr>
                      <p:cNvPr id="379" name=""/>
                      <p:cNvGrpSpPr/>
                      <p:nvPr/>
                    </p:nvGrpSpPr>
                    <p:grpSpPr>
                      <a:xfrm>
                        <a:off x="2302200" y="2865960"/>
                        <a:ext cx="6612480" cy="3259440"/>
                        <a:chOff x="2302200" y="2865960"/>
                        <a:chExt cx="6612480" cy="3259440"/>
                      </a:xfrm>
                    </p:grpSpPr>
                    <p:sp>
                      <p:nvSpPr>
                        <p:cNvPr id="380" name=""/>
                        <p:cNvSpPr/>
                        <p:nvPr/>
                      </p:nvSpPr>
                      <p:spPr>
                        <a:xfrm>
                          <a:off x="8292600" y="5869800"/>
                          <a:ext cx="622080" cy="255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LRD</a:t>
                          </a:r>
                          <a:r>
                            <a:rPr b="0" lang="en-US" sz="2000" spc="-1" strike="noStrike" baseline="-25000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"/>
                        <p:cNvSpPr/>
                        <p:nvPr/>
                      </p:nvSpPr>
                      <p:spPr>
                        <a:xfrm>
                          <a:off x="2302200" y="2865960"/>
                          <a:ext cx="5990400" cy="317088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2" name=""/>
                      <p:cNvGrpSpPr/>
                      <p:nvPr/>
                    </p:nvGrpSpPr>
                    <p:grpSpPr>
                      <a:xfrm>
                        <a:off x="3899520" y="2365200"/>
                        <a:ext cx="3002400" cy="3849840"/>
                        <a:chOff x="3899520" y="2365200"/>
                        <a:chExt cx="3002400" cy="3849840"/>
                      </a:xfrm>
                    </p:grpSpPr>
                    <p:sp>
                      <p:nvSpPr>
                        <p:cNvPr id="383" name=""/>
                        <p:cNvSpPr/>
                        <p:nvPr/>
                      </p:nvSpPr>
                      <p:spPr>
                        <a:xfrm>
                          <a:off x="3899520" y="2365200"/>
                          <a:ext cx="2395800" cy="35046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969696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4" name=""/>
                        <p:cNvSpPr/>
                        <p:nvPr/>
                      </p:nvSpPr>
                      <p:spPr>
                        <a:xfrm>
                          <a:off x="6295320" y="5703120"/>
                          <a:ext cx="606600" cy="5119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999999"/>
                              </a:solidFill>
                              <a:latin typeface="Times New Roman"/>
                            </a:rPr>
                            <a:t>SRD</a:t>
                          </a:r>
                          <a:r>
                            <a:rPr b="0" lang="en-US" sz="2000" spc="-1" strike="noStrike" baseline="-25000">
                              <a:solidFill>
                                <a:srgbClr val="999999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85" name=""/>
                  <p:cNvSpPr/>
                  <p:nvPr/>
                </p:nvSpPr>
                <p:spPr>
                  <a:xfrm>
                    <a:off x="4831560" y="3700440"/>
                    <a:ext cx="150840" cy="26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097960" y="3413160"/>
                    <a:ext cx="150840" cy="26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2967840" y="3116520"/>
                  <a:ext cx="150480" cy="26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6480" y="1447920"/>
            <a:ext cx="7819200" cy="4616280"/>
            <a:chOff x="456480" y="1447920"/>
            <a:chExt cx="7819200" cy="4616280"/>
          </a:xfrm>
        </p:grpSpPr>
        <p:sp>
          <p:nvSpPr>
            <p:cNvPr id="390" name=""/>
            <p:cNvSpPr/>
            <p:nvPr/>
          </p:nvSpPr>
          <p:spPr>
            <a:xfrm>
              <a:off x="6743880" y="5684040"/>
              <a:ext cx="582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56480" y="1447920"/>
              <a:ext cx="7819200" cy="4616280"/>
              <a:chOff x="456480" y="1447920"/>
              <a:chExt cx="7819200" cy="4616280"/>
            </a:xfrm>
          </p:grpSpPr>
          <p:sp>
            <p:nvSpPr>
              <p:cNvPr id="392" name=""/>
              <p:cNvSpPr/>
              <p:nvPr/>
            </p:nvSpPr>
            <p:spPr>
              <a:xfrm>
                <a:off x="7341120" y="5259600"/>
                <a:ext cx="509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R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456480" y="1521720"/>
                <a:ext cx="7819200" cy="4542480"/>
                <a:chOff x="456480" y="1521720"/>
                <a:chExt cx="7819200" cy="45424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8090640" y="5758920"/>
                  <a:ext cx="1850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56480" y="152172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6360" y="1521720"/>
                  <a:ext cx="0" cy="439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56360" y="5920560"/>
                  <a:ext cx="7184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906120" y="1512720"/>
                <a:ext cx="7034760" cy="4236120"/>
              </a:xfrm>
              <a:custGeom>
                <a:avLst/>
                <a:gdLst/>
                <a:ahLst/>
                <a:rect l="l" t="t" r="r" b="b"/>
                <a:pathLst>
                  <a:path w="5640" h="4680">
                    <a:moveTo>
                      <a:pt x="0" y="0"/>
                    </a:moveTo>
                    <a:cubicBezTo>
                      <a:pt x="130" y="1320"/>
                      <a:pt x="260" y="2640"/>
                      <a:pt x="1200" y="3420"/>
                    </a:cubicBezTo>
                    <a:cubicBezTo>
                      <a:pt x="2140" y="4200"/>
                      <a:pt x="3890" y="4440"/>
                      <a:pt x="5640" y="468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055880" y="1675800"/>
                <a:ext cx="6885360" cy="4236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759960" y="1512720"/>
                <a:ext cx="744840" cy="4399200"/>
                <a:chOff x="759960" y="1512720"/>
                <a:chExt cx="744840" cy="4399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59960" y="5423040"/>
                  <a:ext cx="52776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8080"/>
                      </a:solidFill>
                      <a:latin typeface="Times New Roman"/>
                    </a:rPr>
                    <a:t>SRS</a:t>
                  </a:r>
                  <a:r>
                    <a:rPr b="0" lang="en-US" sz="2000" spc="-1" strike="noStrike" baseline="-25000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04800" y="1512720"/>
                  <a:ext cx="0" cy="4399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1205640" y="1447920"/>
                <a:ext cx="2970720" cy="4399200"/>
                <a:chOff x="1205640" y="1447920"/>
                <a:chExt cx="2970720" cy="43992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605760" y="5423400"/>
                  <a:ext cx="57060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8080"/>
                      </a:solidFill>
                      <a:latin typeface="Times New Roman"/>
                    </a:rPr>
                    <a:t>SRD</a:t>
                  </a:r>
                  <a:r>
                    <a:rPr b="0" lang="en-US" sz="2000" spc="-1" strike="noStrike" baseline="-25000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205640" y="1447920"/>
                  <a:ext cx="2544480" cy="4399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2106360" y="1512720"/>
                <a:ext cx="745560" cy="4399200"/>
                <a:chOff x="2106360" y="1512720"/>
                <a:chExt cx="745560" cy="43992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2106360" y="5423040"/>
                  <a:ext cx="52776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8080"/>
                      </a:solidFill>
                      <a:latin typeface="Times New Roman"/>
                    </a:rPr>
                    <a:t>SRS</a:t>
                  </a:r>
                  <a:r>
                    <a:rPr b="0" lang="en-US" sz="2000" spc="-1" strike="noStrike" baseline="-25000">
                      <a:solidFill>
                        <a:srgbClr val="80808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851920" y="1512720"/>
                  <a:ext cx="0" cy="4399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1359360" y="1773360"/>
                <a:ext cx="165600" cy="34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706840" y="4120560"/>
                <a:ext cx="165600" cy="34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2103480" y="1512720"/>
                <a:ext cx="2966040" cy="4399200"/>
                <a:chOff x="2103480" y="1512720"/>
                <a:chExt cx="2966040" cy="43992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498920" y="5488200"/>
                  <a:ext cx="57060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8080"/>
                      </a:solidFill>
                      <a:latin typeface="Times New Roman"/>
                    </a:rPr>
                    <a:t>SRD</a:t>
                  </a:r>
                  <a:r>
                    <a:rPr b="0" lang="en-US" sz="2000" spc="-1" strike="noStrike" baseline="-25000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3480" y="1512720"/>
                  <a:ext cx="2544480" cy="4399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>
                <a:off x="2706840" y="2654280"/>
                <a:ext cx="165600" cy="34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 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 music p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al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orship: decisions made by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: voting and 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: 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holders elect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choose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makes mos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large decisions require board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on of ownership and contro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a single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bb-Doug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comp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 Substitutes arises when the components enter additivel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90720" y="2590920"/>
                <a:ext cx="6553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3962520"/>
                <a:ext cx="7391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b-Douglas Isoqu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782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ginal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product of capital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ometimes d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nputs more readily changed than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d in short-ru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long-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324480" y="1447920"/>
                <a:ext cx="16257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57800" y="2590920"/>
                <a:ext cx="3002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s and Substit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amount of a complement increases productivity of another inpu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066680" y="2743200"/>
                <a:ext cx="1295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19320" y="4724280"/>
                <a:ext cx="1295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Run Profit  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4640" y="251424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480" y="1600200"/>
                <a:ext cx="48006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w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2362320"/>
                <a:ext cx="44197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9480" y="3581280"/>
                <a:ext cx="449604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≥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π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5791320" y="380988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1-19T17:44:48Z</dcterms:modified>
  <cp:revision>24</cp:revision>
  <dc:subject/>
  <dc:title>Supply &amp; Demand</dc:title>
</cp:coreProperties>
</file>