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0F0-8908-4947-ADB8-38EA5104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6A4-A5F1-435D-AF73-F0470153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A8D-C370-403F-8547-51A0BC39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098-DC4F-4EEB-ADAF-6C373C80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2B7-FE64-4336-B170-975B44F4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823-5D8C-454E-971B-C8DCD5E8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AEA-C04E-4B57-A25A-F2DAE5DB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BC8-E999-4365-A2C7-D67E82E7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64F-B747-465D-98AE-57173C6C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886-00A0-49BE-9D26-C8B7BCFF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1B1-102B-4ACC-B3D3-67CD181E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ADC-CABF-498B-9F11-8DB4610E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C6A5-77D8-44AC-B02B-37E11CF52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5345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are more like they are now than they have ever b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ald 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cerpt from the Lancashire Social Services Department, explaining why Harry and Esther Hough were not qualified to adopt a chi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 would seem from the interviews and reports that both of you have had few, if any, negative experiences when you were children yourselves, and also seem to enjoy a marital experience where rows and arguments have no place.  Under the circumstances, adopted children would not have sufficient exposure to negative experi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tter goes on to say that the couple "exuded excessive harmony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ce Sutter has been around for a while and he's pretty old.  He's thirty‑five years old.  That will give some idea how old he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n Fairly, S.F. Giants broadc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lowdown scoundrel deserves to be kicked to death by a jackass, and I'm just the one to do it.     ‑a Texas congressional candidate, quoted by MA state senator John P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great day for F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 Nixon, while attending Charles de Gaulle's fu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worst disaster in California since I was el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governor Pat Brown, discussing a f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 Under 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BA 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risk-adjusted interes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djustment for project, not par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botson Cost of Capital Year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expected N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take if E NPV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s of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d invested $1 in the following from end of 1925 to end of 1999 it would have increas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2362320"/>
          <a:ext cx="8000640" cy="3657240"/>
        </p:xfrm>
        <a:graphic>
          <a:graphicData uri="http://schemas.openxmlformats.org/drawingml/2006/table">
            <a:tbl>
              <a:tblPr/>
              <a:tblGrid>
                <a:gridCol w="5000400"/>
                <a:gridCol w="1599840"/>
                <a:gridCol w="1400400"/>
              </a:tblGrid>
              <a:tr h="72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Retu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 W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&amp;P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845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company stock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,640.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-term corporate bond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6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-term government bond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te-term government bond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3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S. Treasury B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.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.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28600" y="1830240"/>
          <a:ext cx="8596080" cy="3579480"/>
        </p:xfrm>
        <a:graphic>
          <a:graphicData uri="http://schemas.openxmlformats.org/drawingml/2006/table">
            <a:tbl>
              <a:tblPr/>
              <a:tblGrid>
                <a:gridCol w="4284000"/>
                <a:gridCol w="1447560"/>
                <a:gridCol w="1357920"/>
                <a:gridCol w="1506600"/>
              </a:tblGrid>
              <a:tr h="716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etric 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Dev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thmetic 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company sto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company sto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-term corporate b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-term government b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te-term gov’t b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S. Treasury B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Retu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c me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me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213080" y="1828800"/>
                <a:ext cx="140184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202280" y="3200400"/>
                <a:ext cx="1025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14400" y="4495680"/>
                <a:ext cx="670572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∏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nary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Returns,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c makes sense when using rates of return over several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would be used for expected returns in a given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rek animators deny rumors that the Dreamworks character is based on Disney CEO Michael Eis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2822400" cy="4495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29559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itation 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day is the recitation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ho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questions 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,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V is appropriate for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w or never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w or la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ires an additional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 a pa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ll an oil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fa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 destroys option to inv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1 to produce a val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[0,1], interest ra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toff val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vest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NPV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9480" y="4191120"/>
                <a:ext cx="746784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d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09480" y="1447920"/>
                <a:ext cx="4648320" cy="20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2120" y="4724280"/>
                <a:ext cx="64706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0, 0.25, 0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Ex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supply of a resour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demand elasticit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 the quantity consumed at ti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ge: price rises at interes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09480" y="4495680"/>
                <a:ext cx="72392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ε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ε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itrage spreads use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run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 rise at interes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s don’t view natural resources this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ng alternatives, technologic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2, 1 – (1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9.3% an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lf life 7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09480" y="1371600"/>
                <a:ext cx="48006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0880" y="2057400"/>
                <a:ext cx="80312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-Cu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harvest then r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, lobsters, fish, c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after grow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time interest r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90720" y="3809880"/>
                <a:ext cx="265428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δ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38080" y="1523880"/>
                <a:ext cx="72392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δ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δ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δ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514600" y="2286000"/>
                <a:ext cx="38098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b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b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δ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905120" y="4114800"/>
                <a:ext cx="3124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531800"/>
            <a:ext cx="7695720" cy="4640400"/>
            <a:chOff x="457200" y="1531800"/>
            <a:chExt cx="7695720" cy="464040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457200" y="1728360"/>
              <a:ext cx="7454520" cy="444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2848320" y="2956320"/>
              <a:ext cx="1617840" cy="686520"/>
              <a:chOff x="2848320" y="2956320"/>
              <a:chExt cx="1617840" cy="686520"/>
            </a:xfrm>
          </p:grpSpPr>
          <p:sp>
            <p:nvSpPr>
              <p:cNvPr id="134" name=""/>
              <p:cNvSpPr/>
              <p:nvPr/>
            </p:nvSpPr>
            <p:spPr>
              <a:xfrm>
                <a:off x="3467520" y="2956320"/>
                <a:ext cx="998640" cy="68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848320" y="3184560"/>
                <a:ext cx="6188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904760" y="1531800"/>
              <a:ext cx="1186920" cy="636480"/>
              <a:chOff x="1904760" y="1531800"/>
              <a:chExt cx="1186920" cy="636480"/>
            </a:xfrm>
          </p:grpSpPr>
          <p:sp>
            <p:nvSpPr>
              <p:cNvPr id="137" name=""/>
              <p:cNvSpPr/>
              <p:nvPr/>
            </p:nvSpPr>
            <p:spPr>
              <a:xfrm>
                <a:off x="1911600" y="1912320"/>
                <a:ext cx="1180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65240" y="1906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09480" y="198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Verdana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39600" y="1906560"/>
                <a:ext cx="7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402640" y="1531800"/>
                <a:ext cx="7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616120" y="1906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173680" y="1985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04760" y="198540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7631280" y="5617440"/>
              <a:ext cx="52164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828800" y="1447920"/>
                <a:ext cx="14479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563868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-Cu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sey Rule: cut down the trees when they are growing at the interes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policy of maximum sustainable yield send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 yiel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523880" y="2743200"/>
                <a:ext cx="3124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5029200"/>
                <a:ext cx="17031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man Sac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giving an informational presentation about careers in finance and Goldman Sachs in particular. I wanted to ask if you could please alert your students and any other interested parties about our present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ession Info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 Thursday, Jan 27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: 4:00 P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Brennen Conference Ro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of paym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: same payment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interest ra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0880" y="2666880"/>
                <a:ext cx="81536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38080" y="5181480"/>
                <a:ext cx="609624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tg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$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perio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62200" y="4038480"/>
                <a:ext cx="31176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33520" y="2514600"/>
                <a:ext cx="750564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 Lo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½% per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/ month for 60 months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orrow $20,000 requ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838080" y="2971800"/>
                <a:ext cx="6337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765440" y="5330880"/>
                <a:ext cx="4483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3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of the Lot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M/yr, 2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7200" y="2286000"/>
                <a:ext cx="83059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"/>
          <p:cNvGraphicFramePr/>
          <p:nvPr/>
        </p:nvGraphicFramePr>
        <p:xfrm>
          <a:off x="533520" y="3962520"/>
          <a:ext cx="8305200" cy="1143000"/>
        </p:xfrm>
        <a:graphic>
          <a:graphicData uri="http://schemas.openxmlformats.org/drawingml/2006/table">
            <a:tbl>
              <a:tblPr/>
              <a:tblGrid>
                <a:gridCol w="1331640"/>
                <a:gridCol w="1227600"/>
                <a:gridCol w="1175400"/>
                <a:gridCol w="1176840"/>
                <a:gridCol w="1176840"/>
                <a:gridCol w="1175400"/>
                <a:gridCol w="10414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V (000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5,3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4,1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,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2,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1,3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9,3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P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 pays $1000 in 1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increase causes bond prices to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066680" y="2362320"/>
                <a:ext cx="50292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BA Investment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N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take project if NPV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able to calculating internal rates of return (solve equation NPV=0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ecause IRR not well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1-26T20:42:05Z</dcterms:modified>
  <cp:revision>15</cp:revision>
  <dc:subject/>
  <dc:title>Supply &amp; Demand</dc:title>
</cp:coreProperties>
</file>