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F3C5-E2FB-44BA-8329-264E1309F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riding by all but largest individual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625-1479-4942-9C37-185792BC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D96-AE11-433D-8B6B-540B7C91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EEB-3240-4A0A-9752-EB8495F1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1A4-F9DB-465B-800B-784DB37A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7282-438F-4186-BCBE-CA1AAD6C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81E-59BE-4E7E-B257-00D5C55A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72A-CBDD-4A1B-954E-5F422BB4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F8A-EEB4-47FD-A64A-13307DC5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B2C-863E-433A-9AF3-37F33404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8F7-AEEE-4280-BCBD-E2060CE9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1A7-660B-4D82-9B4A-BB788791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15E-3466-464C-862C-74D84BDB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74A4-9791-4D61-B8D5-92D8BA91F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nelastic demand, fishing effort rises as stock of fish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ises fast enough, will drive fish to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s exter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ers share common resource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doesn’t account for the effect of their catch on the future profitability of 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heat of the space race in the 1960s, the U.S. National Aeronautics and Space Administration decided it needed a ball point pen to write in the zero gravity confines of its space capsules. After considerable research and development, the Astronaut Pen was developed at a cost of approximately $1 million U.S. The pen worked and also enjoyed some modest success as a novelty item back her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Union, faced with the same problem, used a penc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Key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exclud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ival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hig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-R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 siz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easured in $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val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contributions stop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voluntary contributions, park is sized so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size satisf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400800" y="2743200"/>
                <a:ext cx="1797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895480" y="5181480"/>
                <a:ext cx="25765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86000" y="3886200"/>
                <a:ext cx="2847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inefficient size by setting park size and charging people 1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s g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voting, median do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 is sized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r to opt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657600" y="2590920"/>
                <a:ext cx="21700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733920" y="4343400"/>
                <a:ext cx="37288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dian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Public G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public good is “locally non-excluda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ities differentiate, and public moves to optimal neighbor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public goods provision much more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ly relevant fo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n others not part of a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d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Benefit,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04920" y="1219320"/>
            <a:ext cx="7162560" cy="5452920"/>
            <a:chOff x="304920" y="1219320"/>
            <a:chExt cx="7162560" cy="5452920"/>
          </a:xfrm>
        </p:grpSpPr>
        <p:grpSp>
          <p:nvGrpSpPr>
            <p:cNvPr id="54" name=""/>
            <p:cNvGrpSpPr/>
            <p:nvPr/>
          </p:nvGrpSpPr>
          <p:grpSpPr>
            <a:xfrm>
              <a:off x="4249800" y="2617560"/>
              <a:ext cx="857160" cy="3141360"/>
              <a:chOff x="4249800" y="2617560"/>
              <a:chExt cx="857160" cy="3141360"/>
            </a:xfrm>
          </p:grpSpPr>
          <p:sp>
            <p:nvSpPr>
              <p:cNvPr id="55" name=""/>
              <p:cNvSpPr/>
              <p:nvPr/>
            </p:nvSpPr>
            <p:spPr>
              <a:xfrm>
                <a:off x="4249800" y="2617560"/>
                <a:ext cx="857160" cy="1506960"/>
              </a:xfrm>
              <a:custGeom>
                <a:avLst/>
                <a:gdLst/>
                <a:ahLst/>
                <a:rect l="l" t="t" r="r" b="b"/>
                <a:pathLst>
                  <a:path w="814" h="1494">
                    <a:moveTo>
                      <a:pt x="814" y="1494"/>
                    </a:moveTo>
                    <a:cubicBezTo>
                      <a:pt x="762" y="1477"/>
                      <a:pt x="805" y="1436"/>
                      <a:pt x="754" y="1419"/>
                    </a:cubicBezTo>
                    <a:cubicBezTo>
                      <a:pt x="689" y="1397"/>
                      <a:pt x="722" y="1413"/>
                      <a:pt x="657" y="1367"/>
                    </a:cubicBezTo>
                    <a:cubicBezTo>
                      <a:pt x="648" y="1361"/>
                      <a:pt x="637" y="1358"/>
                      <a:pt x="627" y="1352"/>
                    </a:cubicBezTo>
                    <a:cubicBezTo>
                      <a:pt x="612" y="1343"/>
                      <a:pt x="582" y="1322"/>
                      <a:pt x="582" y="1322"/>
                    </a:cubicBezTo>
                    <a:cubicBezTo>
                      <a:pt x="559" y="1256"/>
                      <a:pt x="509" y="1249"/>
                      <a:pt x="469" y="1202"/>
                    </a:cubicBezTo>
                    <a:cubicBezTo>
                      <a:pt x="463" y="1195"/>
                      <a:pt x="461" y="1185"/>
                      <a:pt x="454" y="1179"/>
                    </a:cubicBezTo>
                    <a:cubicBezTo>
                      <a:pt x="440" y="1167"/>
                      <a:pt x="409" y="1149"/>
                      <a:pt x="409" y="1149"/>
                    </a:cubicBezTo>
                    <a:cubicBezTo>
                      <a:pt x="401" y="1123"/>
                      <a:pt x="365" y="1090"/>
                      <a:pt x="342" y="1074"/>
                    </a:cubicBezTo>
                    <a:cubicBezTo>
                      <a:pt x="339" y="1067"/>
                      <a:pt x="340" y="1057"/>
                      <a:pt x="334" y="1052"/>
                    </a:cubicBezTo>
                    <a:cubicBezTo>
                      <a:pt x="321" y="1039"/>
                      <a:pt x="289" y="1022"/>
                      <a:pt x="289" y="1022"/>
                    </a:cubicBezTo>
                    <a:cubicBezTo>
                      <a:pt x="271" y="994"/>
                      <a:pt x="256" y="995"/>
                      <a:pt x="229" y="977"/>
                    </a:cubicBezTo>
                    <a:cubicBezTo>
                      <a:pt x="211" y="949"/>
                      <a:pt x="196" y="950"/>
                      <a:pt x="169" y="932"/>
                    </a:cubicBezTo>
                    <a:cubicBezTo>
                      <a:pt x="150" y="871"/>
                      <a:pt x="179" y="942"/>
                      <a:pt x="139" y="902"/>
                    </a:cubicBezTo>
                    <a:cubicBezTo>
                      <a:pt x="133" y="896"/>
                      <a:pt x="136" y="886"/>
                      <a:pt x="132" y="879"/>
                    </a:cubicBezTo>
                    <a:cubicBezTo>
                      <a:pt x="126" y="870"/>
                      <a:pt x="116" y="865"/>
                      <a:pt x="109" y="857"/>
                    </a:cubicBezTo>
                    <a:cubicBezTo>
                      <a:pt x="60" y="795"/>
                      <a:pt x="101" y="827"/>
                      <a:pt x="57" y="797"/>
                    </a:cubicBezTo>
                    <a:cubicBezTo>
                      <a:pt x="34" y="762"/>
                      <a:pt x="0" y="739"/>
                      <a:pt x="57" y="722"/>
                    </a:cubicBezTo>
                    <a:cubicBezTo>
                      <a:pt x="64" y="714"/>
                      <a:pt x="70" y="705"/>
                      <a:pt x="79" y="699"/>
                    </a:cubicBezTo>
                    <a:cubicBezTo>
                      <a:pt x="86" y="695"/>
                      <a:pt x="96" y="697"/>
                      <a:pt x="102" y="692"/>
                    </a:cubicBezTo>
                    <a:cubicBezTo>
                      <a:pt x="109" y="686"/>
                      <a:pt x="111" y="676"/>
                      <a:pt x="117" y="669"/>
                    </a:cubicBezTo>
                    <a:cubicBezTo>
                      <a:pt x="124" y="661"/>
                      <a:pt x="131" y="653"/>
                      <a:pt x="139" y="647"/>
                    </a:cubicBezTo>
                    <a:cubicBezTo>
                      <a:pt x="153" y="636"/>
                      <a:pt x="184" y="617"/>
                      <a:pt x="184" y="617"/>
                    </a:cubicBezTo>
                    <a:cubicBezTo>
                      <a:pt x="189" y="609"/>
                      <a:pt x="193" y="600"/>
                      <a:pt x="199" y="594"/>
                    </a:cubicBezTo>
                    <a:cubicBezTo>
                      <a:pt x="205" y="588"/>
                      <a:pt x="216" y="586"/>
                      <a:pt x="222" y="579"/>
                    </a:cubicBezTo>
                    <a:cubicBezTo>
                      <a:pt x="259" y="535"/>
                      <a:pt x="212" y="561"/>
                      <a:pt x="259" y="519"/>
                    </a:cubicBezTo>
                    <a:cubicBezTo>
                      <a:pt x="272" y="507"/>
                      <a:pt x="291" y="501"/>
                      <a:pt x="304" y="489"/>
                    </a:cubicBezTo>
                    <a:cubicBezTo>
                      <a:pt x="318" y="475"/>
                      <a:pt x="327" y="457"/>
                      <a:pt x="342" y="444"/>
                    </a:cubicBezTo>
                    <a:cubicBezTo>
                      <a:pt x="357" y="431"/>
                      <a:pt x="377" y="425"/>
                      <a:pt x="394" y="414"/>
                    </a:cubicBezTo>
                    <a:cubicBezTo>
                      <a:pt x="399" y="407"/>
                      <a:pt x="402" y="397"/>
                      <a:pt x="409" y="392"/>
                    </a:cubicBezTo>
                    <a:cubicBezTo>
                      <a:pt x="415" y="387"/>
                      <a:pt x="426" y="390"/>
                      <a:pt x="432" y="384"/>
                    </a:cubicBezTo>
                    <a:cubicBezTo>
                      <a:pt x="437" y="379"/>
                      <a:pt x="434" y="368"/>
                      <a:pt x="439" y="362"/>
                    </a:cubicBezTo>
                    <a:cubicBezTo>
                      <a:pt x="445" y="355"/>
                      <a:pt x="454" y="352"/>
                      <a:pt x="462" y="347"/>
                    </a:cubicBezTo>
                    <a:cubicBezTo>
                      <a:pt x="481" y="286"/>
                      <a:pt x="452" y="357"/>
                      <a:pt x="492" y="317"/>
                    </a:cubicBezTo>
                    <a:cubicBezTo>
                      <a:pt x="532" y="277"/>
                      <a:pt x="461" y="306"/>
                      <a:pt x="522" y="287"/>
                    </a:cubicBezTo>
                    <a:cubicBezTo>
                      <a:pt x="541" y="259"/>
                      <a:pt x="569" y="231"/>
                      <a:pt x="597" y="212"/>
                    </a:cubicBezTo>
                    <a:cubicBezTo>
                      <a:pt x="602" y="204"/>
                      <a:pt x="605" y="195"/>
                      <a:pt x="612" y="189"/>
                    </a:cubicBezTo>
                    <a:cubicBezTo>
                      <a:pt x="618" y="184"/>
                      <a:pt x="629" y="187"/>
                      <a:pt x="634" y="182"/>
                    </a:cubicBezTo>
                    <a:cubicBezTo>
                      <a:pt x="673" y="143"/>
                      <a:pt x="607" y="170"/>
                      <a:pt x="664" y="152"/>
                    </a:cubicBezTo>
                    <a:cubicBezTo>
                      <a:pt x="707" y="86"/>
                      <a:pt x="650" y="163"/>
                      <a:pt x="702" y="122"/>
                    </a:cubicBezTo>
                    <a:cubicBezTo>
                      <a:pt x="752" y="83"/>
                      <a:pt x="683" y="110"/>
                      <a:pt x="739" y="92"/>
                    </a:cubicBezTo>
                    <a:cubicBezTo>
                      <a:pt x="775" y="56"/>
                      <a:pt x="755" y="79"/>
                      <a:pt x="792" y="24"/>
                    </a:cubicBezTo>
                    <a:cubicBezTo>
                      <a:pt x="808" y="0"/>
                      <a:pt x="798" y="2"/>
                      <a:pt x="814" y="2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273200" y="3398040"/>
                <a:ext cx="0" cy="236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06960" y="2671920"/>
                <a:ext cx="0" cy="308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304920" y="1219320"/>
              <a:ext cx="7162560" cy="5452920"/>
              <a:chOff x="304920" y="1219320"/>
              <a:chExt cx="7162560" cy="545292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1694880" y="1582560"/>
                <a:ext cx="5560560" cy="4176360"/>
                <a:chOff x="1694880" y="1582560"/>
                <a:chExt cx="5560560" cy="417636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694880" y="1582560"/>
                  <a:ext cx="0" cy="417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694880" y="5758920"/>
                  <a:ext cx="5560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1442520" y="1219320"/>
                <a:ext cx="7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256160" y="5577480"/>
                <a:ext cx="7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073960" y="1582560"/>
                <a:ext cx="4170600" cy="3813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073960" y="1400760"/>
                <a:ext cx="4423320" cy="399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497640" y="5032800"/>
                <a:ext cx="96984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enefi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1694520" y="3398400"/>
                <a:ext cx="252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243480" y="3398400"/>
                <a:ext cx="9777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854600" y="5759280"/>
                <a:ext cx="133524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Competitiv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464280" y="2490120"/>
                <a:ext cx="3791160" cy="290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1694880" y="4124520"/>
                <a:ext cx="341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475160" y="1764000"/>
                <a:ext cx="969840" cy="10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oci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715920" y="5757120"/>
                <a:ext cx="94860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Social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ffici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04920" y="3943080"/>
                <a:ext cx="133524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Competitiv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3640" y="2853720"/>
                <a:ext cx="899280" cy="90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Social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ffici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739120" y="2047320"/>
                <a:ext cx="378720" cy="1634400"/>
              </a:xfrm>
              <a:custGeom>
                <a:avLst/>
                <a:gdLst>
                  <a:gd name="textAreaLeft" fmla="*/ 0 w 378720"/>
                  <a:gd name="textAreaRight" fmla="*/ 136800 w 378720"/>
                  <a:gd name="textAreaTop" fmla="*/ 42480 h 1634400"/>
                  <a:gd name="textAreaBottom" fmla="*/ 1591920 h 163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5000"/>
                    </a:lnTo>
                    <a:cubicBezTo>
                      <a:pt x="10800" y="5900"/>
                      <a:pt x="16200" y="6800"/>
                      <a:pt x="21600" y="6800"/>
                    </a:cubicBezTo>
                    <a:cubicBezTo>
                      <a:pt x="16200" y="6800"/>
                      <a:pt x="10800" y="7700"/>
                      <a:pt x="10800" y="8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118200" y="1945440"/>
                <a:ext cx="969840" cy="10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ter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6480" y="1295280"/>
            <a:ext cx="5487120" cy="5491800"/>
            <a:chOff x="456480" y="1295280"/>
            <a:chExt cx="5487120" cy="5491800"/>
          </a:xfrm>
        </p:grpSpPr>
        <p:sp>
          <p:nvSpPr>
            <p:cNvPr id="80" name=""/>
            <p:cNvSpPr/>
            <p:nvPr/>
          </p:nvSpPr>
          <p:spPr>
            <a:xfrm>
              <a:off x="3523680" y="5873040"/>
              <a:ext cx="1127880" cy="6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ompeti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56480" y="1295280"/>
              <a:ext cx="5487120" cy="5491800"/>
              <a:chOff x="456480" y="1295280"/>
              <a:chExt cx="5487120" cy="549180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661680" y="1768680"/>
                <a:ext cx="4497480" cy="3630240"/>
                <a:chOff x="661680" y="1768680"/>
                <a:chExt cx="4497480" cy="36302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61680" y="1768680"/>
                  <a:ext cx="0" cy="363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61680" y="5398920"/>
                  <a:ext cx="449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456480" y="1452240"/>
                <a:ext cx="14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158440" y="5242320"/>
                <a:ext cx="14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968040" y="1768320"/>
                <a:ext cx="3373200" cy="3314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68040" y="1611000"/>
                <a:ext cx="3577320" cy="3472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45720" y="4610160"/>
                <a:ext cx="784440" cy="78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enefi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159160" y="2242440"/>
                <a:ext cx="784440" cy="94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2092680" y="2557440"/>
                <a:ext cx="3066480" cy="252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43480" y="1295280"/>
                <a:ext cx="784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oci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295000" y="5871960"/>
                <a:ext cx="94860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Social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ffici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83720" y="1768680"/>
                <a:ext cx="2964240" cy="268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45720" y="3663000"/>
                <a:ext cx="784440" cy="78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oci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enefi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421440" y="3978720"/>
                <a:ext cx="0" cy="14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53520" y="3031560"/>
                <a:ext cx="0" cy="236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808000" y="5398920"/>
                <a:ext cx="204120" cy="47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flipV="1">
                <a:off x="3421080" y="5398920"/>
                <a:ext cx="510840" cy="47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gouvian T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04920" y="1295280"/>
            <a:ext cx="6926040" cy="5289840"/>
            <a:chOff x="304920" y="1295280"/>
            <a:chExt cx="6926040" cy="5289840"/>
          </a:xfrm>
        </p:grpSpPr>
        <p:sp>
          <p:nvSpPr>
            <p:cNvPr id="102" name=""/>
            <p:cNvSpPr/>
            <p:nvPr/>
          </p:nvSpPr>
          <p:spPr>
            <a:xfrm>
              <a:off x="3684960" y="3482280"/>
              <a:ext cx="0" cy="2187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256760" y="1800000"/>
              <a:ext cx="5236560" cy="3869280"/>
              <a:chOff x="1256760" y="1800000"/>
              <a:chExt cx="5236560" cy="3869280"/>
            </a:xfrm>
          </p:grpSpPr>
          <p:sp>
            <p:nvSpPr>
              <p:cNvPr id="104" name=""/>
              <p:cNvSpPr/>
              <p:nvPr/>
            </p:nvSpPr>
            <p:spPr>
              <a:xfrm>
                <a:off x="1256760" y="1800000"/>
                <a:ext cx="0" cy="386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56760" y="5669280"/>
                <a:ext cx="523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018440" y="1463400"/>
              <a:ext cx="7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93320" y="5501880"/>
              <a:ext cx="7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613880" y="1799640"/>
              <a:ext cx="3927600" cy="353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13880" y="1631520"/>
              <a:ext cx="4165560" cy="370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79440" y="4996440"/>
              <a:ext cx="91332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nef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56400" y="3482280"/>
              <a:ext cx="2379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53200" y="2809080"/>
              <a:ext cx="977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922840" y="2640600"/>
              <a:ext cx="3570480" cy="269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70120" y="1295280"/>
              <a:ext cx="913320" cy="10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59000" y="5670000"/>
              <a:ext cx="9486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ocial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Effic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920" y="2977560"/>
              <a:ext cx="84672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ocial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Effic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61160" y="3987000"/>
              <a:ext cx="397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375920" y="1968120"/>
              <a:ext cx="4284360" cy="32637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674880" y="3482280"/>
              <a:ext cx="0" cy="123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79440" y="1631520"/>
              <a:ext cx="913320" cy="11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st 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quantity at the efficien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able permits yields efficient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the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s bought by environmentalists occas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657600" y="1600200"/>
                <a:ext cx="24382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7" name=""/>
          <p:cNvGrpSpPr/>
          <p:nvPr/>
        </p:nvGrpSpPr>
        <p:grpSpPr>
          <a:xfrm>
            <a:off x="609480" y="2209680"/>
            <a:ext cx="7686720" cy="4190760"/>
            <a:chOff x="609480" y="2209680"/>
            <a:chExt cx="7686720" cy="4190760"/>
          </a:xfrm>
        </p:grpSpPr>
        <p:grpSp>
          <p:nvGrpSpPr>
            <p:cNvPr id="128" name=""/>
            <p:cNvGrpSpPr/>
            <p:nvPr/>
          </p:nvGrpSpPr>
          <p:grpSpPr>
            <a:xfrm>
              <a:off x="609480" y="2209680"/>
              <a:ext cx="7381080" cy="4190760"/>
              <a:chOff x="609480" y="2209680"/>
              <a:chExt cx="7381080" cy="419076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2387520"/>
                <a:ext cx="7381080" cy="401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3024360" y="5059080"/>
                <a:ext cx="13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81920" y="5059080"/>
                <a:ext cx="268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97880" y="5059080"/>
                <a:ext cx="13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06040" y="5059080"/>
                <a:ext cx="13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48480" y="5059080"/>
                <a:ext cx="13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7722000" y="5059080"/>
                <a:ext cx="13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6" name=""/>
                  <p:cNvSpPr txBox="1"/>
                  <p:nvPr/>
                </p:nvSpPr>
                <p:spPr>
                  <a:xfrm>
                    <a:off x="1145160" y="2209680"/>
                    <a:ext cx="26820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˙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7" name=""/>
            <p:cNvSpPr/>
            <p:nvPr/>
          </p:nvSpPr>
          <p:spPr>
            <a:xfrm>
              <a:off x="8126280" y="48798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operate a fishing 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es propor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fish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elasticity of dem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(zero profits) fisher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85800" y="4114800"/>
                <a:ext cx="23623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85800" y="5029200"/>
                <a:ext cx="2133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ε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00400" y="5105520"/>
                <a:ext cx="25146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ε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ε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ε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mand elasti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mand inelastic, extinc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if boats sufficiently c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" y="1447920"/>
                <a:ext cx="4038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ε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419720" y="2743200"/>
                <a:ext cx="3716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rS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2-09T21:52:17Z</dcterms:modified>
  <cp:revision>12</cp:revision>
  <dc:subject/>
  <dc:title>Supply &amp; Demand</dc:title>
</cp:coreProperties>
</file>