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5FB-B71F-450F-863D-4C41BE37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A20-90D9-483A-9924-EE6A65E8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DCC-101D-4A28-9933-E12460DD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890-5EE3-484C-9E35-EEAB509E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780-DA9B-4533-94CE-7E8B195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81B-A97D-4A1C-A202-6832814D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1EC-76D2-4D63-8487-AE72277B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680-5E52-4A27-91E5-AC09B65C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179-8F6D-4A66-A387-1A2FEF0F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EAB-2D26-4697-A52A-8F6534F5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7F5-59A6-4E91-AEAA-A4D8966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058-4F75-49D8-A006-32B1A191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DFE5-A513-4056-A1FC-160C48DC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plays H with probability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2362320"/>
          <a:ext cx="8077320" cy="3267000"/>
        </p:xfrm>
        <a:graphic>
          <a:graphicData uri="http://schemas.openxmlformats.org/drawingml/2006/table">
            <a:tbl>
              <a:tblPr/>
              <a:tblGrid>
                <a:gridCol w="1036800"/>
                <a:gridCol w="1325520"/>
                <a:gridCol w="1538280"/>
                <a:gridCol w="1249200"/>
                <a:gridCol w="2927520"/>
              </a:tblGrid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E pay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-1(1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(1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Strategy Nash Equilib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 for a player is probabilities over th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probabilities maximize expecte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profits from each action chosen with positive probability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fferent to specific probability valu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ixed = “pure strateg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1295280"/>
          <a:ext cx="8305560" cy="4770720"/>
        </p:xfrm>
        <a:graphic>
          <a:graphicData uri="http://schemas.openxmlformats.org/drawingml/2006/table">
            <a:tbl>
              <a:tblPr/>
              <a:tblGrid>
                <a:gridCol w="761760"/>
                <a:gridCol w="1757520"/>
                <a:gridCol w="1758960"/>
                <a:gridCol w="1739880"/>
                <a:gridCol w="2287440"/>
              </a:tblGrid>
              <a:tr h="96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 (prob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 (prob 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’s Expected Pay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 (prob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+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rob 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2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2-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man’s E Pay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0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3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-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14400" y="1600200"/>
          <a:ext cx="6553080" cy="2070000"/>
        </p:xfrm>
        <a:graphic>
          <a:graphicData uri="http://schemas.openxmlformats.org/drawingml/2006/table">
            <a:tbl>
              <a:tblPr/>
              <a:tblGrid>
                <a:gridCol w="1278000"/>
                <a:gridCol w="1811160"/>
                <a:gridCol w="1893960"/>
                <a:gridCol w="156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r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r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4,-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38080" y="1371600"/>
          <a:ext cx="7239240" cy="2430360"/>
        </p:xfrm>
        <a:graphic>
          <a:graphicData uri="http://schemas.openxmlformats.org/drawingml/2006/table">
            <a:tbl>
              <a:tblPr/>
              <a:tblGrid>
                <a:gridCol w="1486080"/>
                <a:gridCol w="1765080"/>
                <a:gridCol w="2202120"/>
                <a:gridCol w="1785960"/>
              </a:tblGrid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ving on the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1523880"/>
          <a:ext cx="4953240" cy="2156040"/>
        </p:xfrm>
        <a:graphic>
          <a:graphicData uri="http://schemas.openxmlformats.org/drawingml/2006/table">
            <a:tbl>
              <a:tblPr/>
              <a:tblGrid>
                <a:gridCol w="1033560"/>
                <a:gridCol w="1143000"/>
                <a:gridCol w="1533600"/>
                <a:gridCol w="124308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1676520"/>
          <a:ext cx="7391520" cy="2923920"/>
        </p:xfrm>
        <a:graphic>
          <a:graphicData uri="http://schemas.openxmlformats.org/drawingml/2006/table">
            <a:tbl>
              <a:tblPr/>
              <a:tblGrid>
                <a:gridCol w="654120"/>
                <a:gridCol w="2324160"/>
                <a:gridCol w="2449440"/>
                <a:gridCol w="196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c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 Reb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c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,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 Reb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sli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14400" y="1447920"/>
          <a:ext cx="7391520" cy="2070000"/>
        </p:xfrm>
        <a:graphic>
          <a:graphicData uri="http://schemas.openxmlformats.org/drawingml/2006/table">
            <a:tbl>
              <a:tblPr/>
              <a:tblGrid>
                <a:gridCol w="1558800"/>
                <a:gridCol w="1791000"/>
                <a:gridCol w="2232000"/>
                <a:gridCol w="18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ubli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752480"/>
          <a:ext cx="7086600" cy="2070360"/>
        </p:xfrm>
        <a:graphic>
          <a:graphicData uri="http://schemas.openxmlformats.org/drawingml/2006/table">
            <a:tbl>
              <a:tblPr/>
              <a:tblGrid>
                <a:gridCol w="1272960"/>
                <a:gridCol w="1871640"/>
                <a:gridCol w="2027520"/>
                <a:gridCol w="191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ve Form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1295280"/>
            <a:ext cx="5790960" cy="4876920"/>
            <a:chOff x="914400" y="1295280"/>
            <a:chExt cx="5790960" cy="4876920"/>
          </a:xfrm>
        </p:grpSpPr>
        <p:grpSp>
          <p:nvGrpSpPr>
            <p:cNvPr id="84" name=""/>
            <p:cNvGrpSpPr/>
            <p:nvPr/>
          </p:nvGrpSpPr>
          <p:grpSpPr>
            <a:xfrm>
              <a:off x="914400" y="1295280"/>
              <a:ext cx="5394240" cy="4433400"/>
              <a:chOff x="914400" y="1295280"/>
              <a:chExt cx="5394240" cy="44334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533960" y="1295280"/>
                <a:ext cx="4497120" cy="4433400"/>
                <a:chOff x="1533960" y="1295280"/>
                <a:chExt cx="4497120" cy="443340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2309760" y="1295280"/>
                  <a:ext cx="2791440" cy="2216520"/>
                  <a:chOff x="2309760" y="1295280"/>
                  <a:chExt cx="2791440" cy="2216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>
                    <a:off x="2309760" y="1295280"/>
                    <a:ext cx="124056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550320" y="1295280"/>
                    <a:ext cx="155088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533960" y="3511800"/>
                  <a:ext cx="1705680" cy="2216880"/>
                  <a:chOff x="1533960" y="3511800"/>
                  <a:chExt cx="1705680" cy="22168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>
                    <a:off x="153396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29212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4325400" y="3511800"/>
                  <a:ext cx="1705680" cy="2216880"/>
                  <a:chOff x="4325400" y="3511800"/>
                  <a:chExt cx="1705680" cy="22168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>
                    <a:off x="432540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08356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5" name=""/>
              <p:cNvSpPr/>
              <p:nvPr/>
            </p:nvSpPr>
            <p:spPr>
              <a:xfrm>
                <a:off x="3240360" y="1738440"/>
                <a:ext cx="6552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Y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99800" y="196020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b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26120" y="1960200"/>
                <a:ext cx="14839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 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14400" y="439848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752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5840" y="4177080"/>
                <a:ext cx="100008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70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549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467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069200" y="5729040"/>
              <a:ext cx="810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08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616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2200" y="5729040"/>
              <a:ext cx="9831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oner’s Di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14400" y="1676520"/>
          <a:ext cx="6629400" cy="2860560"/>
        </p:xfrm>
        <a:graphic>
          <a:graphicData uri="http://schemas.openxmlformats.org/drawingml/2006/table">
            <a:tbl>
              <a:tblPr/>
              <a:tblGrid>
                <a:gridCol w="1230480"/>
                <a:gridCol w="1869840"/>
                <a:gridCol w="1935360"/>
                <a:gridCol w="1593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0,-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-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2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ing LA’s Dominate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1295280"/>
            <a:ext cx="5790960" cy="4876920"/>
            <a:chOff x="914400" y="1295280"/>
            <a:chExt cx="5790960" cy="4876920"/>
          </a:xfrm>
        </p:grpSpPr>
        <p:grpSp>
          <p:nvGrpSpPr>
            <p:cNvPr id="110" name=""/>
            <p:cNvGrpSpPr/>
            <p:nvPr/>
          </p:nvGrpSpPr>
          <p:grpSpPr>
            <a:xfrm>
              <a:off x="914400" y="1295280"/>
              <a:ext cx="5394240" cy="4433400"/>
              <a:chOff x="914400" y="1295280"/>
              <a:chExt cx="5394240" cy="44334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533960" y="1295280"/>
                <a:ext cx="4497120" cy="4433400"/>
                <a:chOff x="1533960" y="1295280"/>
                <a:chExt cx="4497120" cy="443340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09760" y="1295280"/>
                  <a:ext cx="2791440" cy="2216520"/>
                  <a:chOff x="2309760" y="1295280"/>
                  <a:chExt cx="2791440" cy="22165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flipH="1">
                    <a:off x="2309760" y="1295280"/>
                    <a:ext cx="124056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550320" y="1295280"/>
                    <a:ext cx="155088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1533960" y="3511800"/>
                  <a:ext cx="1705680" cy="2216880"/>
                  <a:chOff x="1533960" y="3511800"/>
                  <a:chExt cx="1705680" cy="221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flipH="1">
                    <a:off x="153396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29212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4325400" y="3511800"/>
                  <a:ext cx="1705680" cy="2216880"/>
                  <a:chOff x="4325400" y="3511800"/>
                  <a:chExt cx="1705680" cy="221688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>
                    <a:off x="432540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08356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1" name=""/>
              <p:cNvSpPr/>
              <p:nvPr/>
            </p:nvSpPr>
            <p:spPr>
              <a:xfrm>
                <a:off x="3240360" y="1738440"/>
                <a:ext cx="6552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Y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99800" y="196020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b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26120" y="1960200"/>
                <a:ext cx="14839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 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14400" y="439848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752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05840" y="4177080"/>
                <a:ext cx="100008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670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549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467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069200" y="5729040"/>
              <a:ext cx="810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008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1616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2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22200" y="5729040"/>
              <a:ext cx="9831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ed Elimination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inate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1295280"/>
            <a:ext cx="5790960" cy="4876920"/>
            <a:chOff x="914400" y="1295280"/>
            <a:chExt cx="5790960" cy="4876920"/>
          </a:xfrm>
        </p:grpSpPr>
        <p:grpSp>
          <p:nvGrpSpPr>
            <p:cNvPr id="136" name=""/>
            <p:cNvGrpSpPr/>
            <p:nvPr/>
          </p:nvGrpSpPr>
          <p:grpSpPr>
            <a:xfrm>
              <a:off x="914400" y="1295280"/>
              <a:ext cx="5394240" cy="4433400"/>
              <a:chOff x="914400" y="1295280"/>
              <a:chExt cx="5394240" cy="443340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533960" y="1295280"/>
                <a:ext cx="4497120" cy="4433400"/>
                <a:chOff x="1533960" y="1295280"/>
                <a:chExt cx="4497120" cy="443340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2309760" y="1295280"/>
                  <a:ext cx="2791440" cy="2216520"/>
                  <a:chOff x="2309760" y="1295280"/>
                  <a:chExt cx="2791440" cy="22165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H="1">
                    <a:off x="2309760" y="1295280"/>
                    <a:ext cx="1240560" cy="221652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550320" y="1295280"/>
                    <a:ext cx="155088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1533960" y="3511800"/>
                  <a:ext cx="1705680" cy="2216880"/>
                  <a:chOff x="1533960" y="3511800"/>
                  <a:chExt cx="1705680" cy="2216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>
                    <a:off x="153396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29212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4325400" y="3511800"/>
                  <a:ext cx="1705680" cy="2216880"/>
                  <a:chOff x="4325400" y="3511800"/>
                  <a:chExt cx="1705680" cy="221688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>
                    <a:off x="432540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08356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7" name=""/>
              <p:cNvSpPr/>
              <p:nvPr/>
            </p:nvSpPr>
            <p:spPr>
              <a:xfrm>
                <a:off x="3240360" y="1738440"/>
                <a:ext cx="6552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Y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99800" y="196020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Reb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26120" y="1960200"/>
                <a:ext cx="14839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 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14400" y="439848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752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05840" y="4177080"/>
                <a:ext cx="100008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70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549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467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069200" y="5729040"/>
              <a:ext cx="810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008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1616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2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2200" y="5729040"/>
              <a:ext cx="9831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 given game over and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utting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strategy: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3429000"/>
          <a:ext cx="6172200" cy="2070000"/>
        </p:xfrm>
        <a:graphic>
          <a:graphicData uri="http://schemas.openxmlformats.org/drawingml/2006/table">
            <a:tbl>
              <a:tblPr/>
              <a:tblGrid>
                <a:gridCol w="1571760"/>
                <a:gridCol w="1263600"/>
                <a:gridCol w="1842840"/>
                <a:gridCol w="14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2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m Trigger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e (high price) until rival price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price low for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e uses grim trigger, should the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off if defect in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3962520"/>
                <a:ext cx="8153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2120" y="4572000"/>
                <a:ext cx="4724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38080" y="5486400"/>
                <a:ext cx="3627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optim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 best response to the grim trigger strategy is the grim trigger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 is an equilibrium in the supergame supported by the grim trigger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95280" y="1523880"/>
                <a:ext cx="1371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k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utcome is individually rational for a player if it is as good as the payoff in the worst Nash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 theorem: 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igh enough, any outcome that is individually rational for all players is an equilibrium to the super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strategy is best for a player no matter what others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2971800"/>
          <a:ext cx="6629400" cy="2860560"/>
        </p:xfrm>
        <a:graphic>
          <a:graphicData uri="http://schemas.openxmlformats.org/drawingml/2006/table">
            <a:tbl>
              <a:tblPr/>
              <a:tblGrid>
                <a:gridCol w="1230480"/>
                <a:gridCol w="1869840"/>
                <a:gridCol w="1935360"/>
                <a:gridCol w="1593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0,-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-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2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Solv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d elimination of domina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2209680"/>
          <a:ext cx="6019920" cy="2536920"/>
        </p:xfrm>
        <a:graphic>
          <a:graphicData uri="http://schemas.openxmlformats.org/drawingml/2006/table">
            <a:tbl>
              <a:tblPr/>
              <a:tblGrid>
                <a:gridCol w="1095480"/>
                <a:gridCol w="1452600"/>
                <a:gridCol w="1917720"/>
                <a:gridCol w="1554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-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Solv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d elimination of domina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209680"/>
          <a:ext cx="6019920" cy="2536920"/>
        </p:xfrm>
        <a:graphic>
          <a:graphicData uri="http://schemas.openxmlformats.org/drawingml/2006/table">
            <a:tbl>
              <a:tblPr/>
              <a:tblGrid>
                <a:gridCol w="1095480"/>
                <a:gridCol w="1452600"/>
                <a:gridCol w="1917720"/>
                <a:gridCol w="1554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-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Solv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d elimination of domina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38080" y="2209680"/>
          <a:ext cx="6019920" cy="2536920"/>
        </p:xfrm>
        <a:graphic>
          <a:graphicData uri="http://schemas.openxmlformats.org/drawingml/2006/table">
            <a:tbl>
              <a:tblPr/>
              <a:tblGrid>
                <a:gridCol w="1095480"/>
                <a:gridCol w="1452600"/>
                <a:gridCol w="1917720"/>
                <a:gridCol w="1554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2,-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h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 is a Nash equilibrium if it is the result of strategies such that each player’s strategy maximizes that player’s profits given the strategies of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1523880"/>
          <a:ext cx="6172200" cy="2163960"/>
        </p:xfrm>
        <a:graphic>
          <a:graphicData uri="http://schemas.openxmlformats.org/drawingml/2006/table">
            <a:tbl>
              <a:tblPr/>
              <a:tblGrid>
                <a:gridCol w="1158840"/>
                <a:gridCol w="1851120"/>
                <a:gridCol w="1746360"/>
                <a:gridCol w="1415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Pen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1523880"/>
          <a:ext cx="5257800" cy="2197080"/>
        </p:xfrm>
        <a:graphic>
          <a:graphicData uri="http://schemas.openxmlformats.org/drawingml/2006/table">
            <a:tbl>
              <a:tblPr/>
              <a:tblGrid>
                <a:gridCol w="1060560"/>
                <a:gridCol w="1352520"/>
                <a:gridCol w="1571400"/>
                <a:gridCol w="1273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4-09-02T18:48:55Z</dcterms:modified>
  <cp:revision>14</cp:revision>
  <dc:subject/>
  <dc:title>Supply &amp; Demand</dc:title>
</cp:coreProperties>
</file>