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9A23-84E6-4E94-AE09-FDF23F1BE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C77-E4BA-4C31-9DB6-E2E64739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BBA-975F-4A19-870C-F6BC710F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116-3874-4795-B47E-350BF93B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277-B38C-4649-87D3-623066B4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5D4-1580-4140-AFD3-F212EE16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97A-0576-41D1-9572-4A3D0EB5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8AA-82F6-4094-9C45-7263686E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F33-E191-42F1-9819-239FA24B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816-1CEE-465A-BF31-D9D168BD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066-F6DE-4028-BF53-9ED45E73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C66-E725-4167-95AB-750505B5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2D6-FAE2-4862-8A2C-22EC3FC8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71E6-19D3-480A-BCFC-45194FB9BB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A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8191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nglish Auction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idders know their values, price is (approximately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high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d inc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19320" y="4367160"/>
                <a:ext cx="572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quilibrium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dders with values uniformly distributed on [0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ze a linear bidding ru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dder with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o bid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if and only 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the bidder wins with prob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143000" y="3886200"/>
                <a:ext cx="29941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λ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76520" y="4952880"/>
                <a:ext cx="12189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λ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952880" y="4800600"/>
                <a:ext cx="129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λ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705720" y="5334120"/>
                <a:ext cx="12952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λ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First Order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rder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85800" y="2438280"/>
                <a:ext cx="58672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4648320"/>
                <a:ext cx="20574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Bayes-Nash Equilibriu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: hypothesize that all bidders bi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 their value, then show any given bidder follows the same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s w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quilibrium strategy, and each bidder bids the expected second highest value, given their value is high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733920" y="3200400"/>
                <a:ext cx="1447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048120" y="5334120"/>
                <a:ext cx="586728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den>
                        </m:f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Dutch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ng price starts high, falls until a bidder ac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ell cut flowers in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ategically equival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ealed-bid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oth auctions, a strateg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 in a win at pri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vided all others chose strategy &l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Vickrey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rice sealed-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bidder wins, pays second highest 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rivate values, yields dominant strategy to b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Vickrey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ell spectrum licenses in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wide 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 bid of $1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ce of $11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 revelation of value is bad poli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The Winner’s C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"I paid too much for it, but it's worth it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Sam Goldwy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winner's curse is the fact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bidder who most overestimates the value of the object wins the bid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certain resale value can induce winner's cu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ould reduce bid to adjust for this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bids more the more bidders there a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The Winner’s C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3280" indent="-2332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s tend to follow a normal distribution, or bell cu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highest estimate, on average, is larger than the average est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estimate reflects actual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Distribution of Value Esti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85800" y="2362320"/>
            <a:ext cx="7391520" cy="3381120"/>
            <a:chOff x="685800" y="2362320"/>
            <a:chExt cx="7391520" cy="338112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685800" y="2362320"/>
              <a:ext cx="6858000" cy="33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391520" y="5257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52880" y="27432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Dot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2440" indent="-3524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xt slide has some number of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winner of the auction will get 2 cents per d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the number of do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laying for real mo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Size of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5410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deviation is a measure of the “average error” in forec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2514600"/>
          <a:ext cx="7772400" cy="2590920"/>
        </p:xfrm>
        <a:graphic>
          <a:graphicData uri="http://schemas.openxmlformats.org/drawingml/2006/table">
            <a:tbl>
              <a:tblPr/>
              <a:tblGrid>
                <a:gridCol w="706680"/>
                <a:gridCol w="706320"/>
                <a:gridCol w="706320"/>
                <a:gridCol w="706680"/>
                <a:gridCol w="706320"/>
                <a:gridCol w="708120"/>
                <a:gridCol w="706320"/>
                <a:gridCol w="706320"/>
                <a:gridCol w="706680"/>
                <a:gridCol w="706320"/>
                <a:gridCol w="706320"/>
              </a:tblGrid>
              <a:tr h="1143000">
                <a:tc gridSpan="11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Adjustment Needed, in Standard Deviations, for Given Number of Bidder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nner’s curse requires a downward adjustment in estimate which is larger the more bidders there 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 of winner's curse is smaller in English auction, because other value estimates revealed, reducing uncertain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glish auction will tend to have higher prices than sealed-bid au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onclusions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glish auction reduces reg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ner’s curse effect is smaller the higher one’s signal, because the fact that others had lower signals is less meaningful the higher a bidder’s sig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CA Transponder Auction, 19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2120" y="1523880"/>
            <a:ext cx="7924320" cy="4572000"/>
            <a:chOff x="762120" y="1523880"/>
            <a:chExt cx="7924320" cy="4572000"/>
          </a:xfrm>
        </p:grpSpPr>
        <p:grpSp>
          <p:nvGrpSpPr>
            <p:cNvPr id="117" name=""/>
            <p:cNvGrpSpPr/>
            <p:nvPr/>
          </p:nvGrpSpPr>
          <p:grpSpPr>
            <a:xfrm>
              <a:off x="768960" y="1526760"/>
              <a:ext cx="7908480" cy="4565520"/>
              <a:chOff x="768960" y="1526760"/>
              <a:chExt cx="7908480" cy="456552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768960" y="1526760"/>
                <a:ext cx="1531440" cy="506880"/>
                <a:chOff x="768960" y="1526760"/>
                <a:chExt cx="1531440" cy="5068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885960" y="152676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der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68960" y="152676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300760" y="1526760"/>
                <a:ext cx="3295440" cy="506880"/>
                <a:chOff x="2300760" y="1526760"/>
                <a:chExt cx="3295440" cy="5068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417760" y="152676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inning Bidder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300760" y="152676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596920" y="1526760"/>
                <a:ext cx="3080520" cy="506880"/>
                <a:chOff x="5596920" y="1526760"/>
                <a:chExt cx="3080520" cy="5068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713920" y="152676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ce Obtained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596920" y="152676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68960" y="2033640"/>
                <a:ext cx="1531440" cy="507240"/>
                <a:chOff x="768960" y="2033640"/>
                <a:chExt cx="1531440" cy="507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85960" y="2033640"/>
                  <a:ext cx="129744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68960" y="2033640"/>
                  <a:ext cx="1531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300760" y="2033640"/>
                <a:ext cx="3295440" cy="507240"/>
                <a:chOff x="2300760" y="2033640"/>
                <a:chExt cx="3295440" cy="5072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17760" y="2033640"/>
                  <a:ext cx="30607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LC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300760" y="2033640"/>
                  <a:ext cx="3295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5596920" y="2033640"/>
                <a:ext cx="3080520" cy="507240"/>
                <a:chOff x="5596920" y="2033640"/>
                <a:chExt cx="3080520" cy="5072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713920" y="2033640"/>
                  <a:ext cx="28465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4,4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596920" y="2033640"/>
                  <a:ext cx="308052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68960" y="2541240"/>
                <a:ext cx="1531440" cy="506880"/>
                <a:chOff x="768960" y="2541240"/>
                <a:chExt cx="1531440" cy="5068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885960" y="254124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68960" y="254124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300760" y="2541240"/>
                <a:ext cx="3295440" cy="506880"/>
                <a:chOff x="2300760" y="2541240"/>
                <a:chExt cx="3295440" cy="506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417760" y="254124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illy H. Batts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00760" y="254124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596920" y="2541240"/>
                <a:ext cx="3080520" cy="506880"/>
                <a:chOff x="5596920" y="2541240"/>
                <a:chExt cx="3080520" cy="506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713920" y="254124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4,1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96920" y="254124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68960" y="3048480"/>
                <a:ext cx="1531440" cy="507240"/>
                <a:chOff x="768960" y="3048480"/>
                <a:chExt cx="1531440" cy="507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5960" y="3048480"/>
                  <a:ext cx="129744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68960" y="3048480"/>
                  <a:ext cx="1531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300760" y="3048480"/>
                <a:ext cx="3295440" cy="507240"/>
                <a:chOff x="2300760" y="3048480"/>
                <a:chExt cx="3295440" cy="5072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417760" y="3048480"/>
                  <a:ext cx="30607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rner Amex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00760" y="3048480"/>
                  <a:ext cx="3295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596920" y="3048480"/>
                <a:ext cx="3080520" cy="507240"/>
                <a:chOff x="5596920" y="3048480"/>
                <a:chExt cx="3080520" cy="5072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713920" y="3048480"/>
                  <a:ext cx="28465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3,7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596920" y="3048480"/>
                  <a:ext cx="308052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768960" y="3556080"/>
                <a:ext cx="1531440" cy="506880"/>
                <a:chOff x="768960" y="3556080"/>
                <a:chExt cx="1531440" cy="5068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885960" y="355608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8960" y="355608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300760" y="3556080"/>
                <a:ext cx="3295440" cy="506880"/>
                <a:chOff x="2300760" y="3556080"/>
                <a:chExt cx="3295440" cy="5068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417760" y="355608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CTV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300760" y="355608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596920" y="3556080"/>
                <a:ext cx="3080520" cy="506880"/>
                <a:chOff x="5596920" y="3556080"/>
                <a:chExt cx="3080520" cy="5068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713920" y="355608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3,5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596920" y="355608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68960" y="4063320"/>
                <a:ext cx="1531440" cy="507240"/>
                <a:chOff x="768960" y="4063320"/>
                <a:chExt cx="1531440" cy="5072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85960" y="4063320"/>
                  <a:ext cx="129744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68960" y="4063320"/>
                  <a:ext cx="1531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300760" y="4063320"/>
                <a:ext cx="3295440" cy="507240"/>
                <a:chOff x="2300760" y="4063320"/>
                <a:chExt cx="3295440" cy="5072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417760" y="4063320"/>
                  <a:ext cx="30607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O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300760" y="4063320"/>
                  <a:ext cx="3295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596920" y="4063320"/>
                <a:ext cx="3080520" cy="507240"/>
                <a:chOff x="5596920" y="4063320"/>
                <a:chExt cx="3080520" cy="5072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713920" y="4063320"/>
                  <a:ext cx="28465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2,5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596920" y="4063320"/>
                  <a:ext cx="308052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68960" y="4570560"/>
                <a:ext cx="1531440" cy="506880"/>
                <a:chOff x="768960" y="4570560"/>
                <a:chExt cx="1531440" cy="5068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885960" y="457056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68960" y="457056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2300760" y="4570560"/>
                <a:ext cx="3295440" cy="506880"/>
                <a:chOff x="2300760" y="4570560"/>
                <a:chExt cx="3295440" cy="5068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417760" y="457056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ner City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00760" y="457056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596920" y="4570560"/>
                <a:ext cx="3080520" cy="506880"/>
                <a:chOff x="5596920" y="4570560"/>
                <a:chExt cx="3080520" cy="5068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713920" y="457056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,7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596920" y="457056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768960" y="5077800"/>
                <a:ext cx="1531440" cy="507240"/>
                <a:chOff x="768960" y="5077800"/>
                <a:chExt cx="1531440" cy="5072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885960" y="5077800"/>
                  <a:ext cx="129744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68960" y="5077800"/>
                  <a:ext cx="1531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300760" y="5077800"/>
                <a:ext cx="3295440" cy="507240"/>
                <a:chOff x="2300760" y="5077800"/>
                <a:chExt cx="3295440" cy="5072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417760" y="5077800"/>
                  <a:ext cx="30607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TV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300760" y="5077800"/>
                  <a:ext cx="3295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596920" y="5077800"/>
                <a:ext cx="3080520" cy="507240"/>
                <a:chOff x="5596920" y="5077800"/>
                <a:chExt cx="3080520" cy="5072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713920" y="5077800"/>
                  <a:ext cx="28465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1,2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596920" y="5077800"/>
                  <a:ext cx="308052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768960" y="5585400"/>
                <a:ext cx="1531440" cy="506880"/>
                <a:chOff x="768960" y="5585400"/>
                <a:chExt cx="1531440" cy="5068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885960" y="558540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VG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68960" y="558540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300760" y="5585400"/>
                <a:ext cx="3295440" cy="506880"/>
                <a:chOff x="2300760" y="5585400"/>
                <a:chExt cx="3295440" cy="5068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417760" y="558540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00760" y="558540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596920" y="5585400"/>
                <a:ext cx="3080520" cy="506880"/>
                <a:chOff x="5596920" y="5585400"/>
                <a:chExt cx="3080520" cy="5068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713920" y="558540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2,871,428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596920" y="558540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762120" y="1523880"/>
              <a:ext cx="7924320" cy="457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Olymp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62120" y="1676520"/>
            <a:ext cx="7848000" cy="4922640"/>
            <a:chOff x="762120" y="1676520"/>
            <a:chExt cx="7848000" cy="4922640"/>
          </a:xfrm>
        </p:grpSpPr>
        <p:grpSp>
          <p:nvGrpSpPr>
            <p:cNvPr id="202" name=""/>
            <p:cNvGrpSpPr/>
            <p:nvPr/>
          </p:nvGrpSpPr>
          <p:grpSpPr>
            <a:xfrm>
              <a:off x="767520" y="1678320"/>
              <a:ext cx="7835760" cy="4918320"/>
              <a:chOff x="767520" y="1678320"/>
              <a:chExt cx="7835760" cy="491832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767520" y="1678320"/>
                <a:ext cx="1163160" cy="351000"/>
                <a:chOff x="767520" y="1678320"/>
                <a:chExt cx="1163160" cy="3510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847800" y="167832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Yea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67520" y="167832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931040" y="1678320"/>
                <a:ext cx="2259360" cy="351000"/>
                <a:chOff x="1931040" y="1678320"/>
                <a:chExt cx="2259360" cy="3510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2010960" y="167832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it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31040" y="167832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91120" y="1678320"/>
                <a:ext cx="1695960" cy="351000"/>
                <a:chOff x="4191120" y="1678320"/>
                <a:chExt cx="1695960" cy="3510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71040" y="167832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etwor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91120" y="167832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887800" y="1678320"/>
                <a:ext cx="966600" cy="351000"/>
                <a:chOff x="5887800" y="1678320"/>
                <a:chExt cx="966600" cy="3510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968080" y="167832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$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887800" y="167832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854760" y="1678320"/>
                <a:ext cx="1748520" cy="351000"/>
                <a:chOff x="6854760" y="1678320"/>
                <a:chExt cx="1748520" cy="3510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935040" y="167832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$M 198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854760" y="167832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67520" y="2029320"/>
                <a:ext cx="1163160" cy="351000"/>
                <a:chOff x="767520" y="2029320"/>
                <a:chExt cx="1163160" cy="351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847800" y="202932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6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67520" y="202932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931040" y="2029320"/>
                <a:ext cx="2259360" cy="351000"/>
                <a:chOff x="1931040" y="2029320"/>
                <a:chExt cx="2259360" cy="351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010960" y="202932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Ro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931040" y="202932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191120" y="2029320"/>
                <a:ext cx="1695960" cy="351000"/>
                <a:chOff x="4191120" y="2029320"/>
                <a:chExt cx="1695960" cy="3510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271040" y="202932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B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191120" y="202932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887800" y="2029320"/>
                <a:ext cx="966600" cy="351000"/>
                <a:chOff x="5887800" y="2029320"/>
                <a:chExt cx="966600" cy="3510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968080" y="202932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0.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887800" y="202932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854760" y="2029320"/>
                <a:ext cx="1748520" cy="351000"/>
                <a:chOff x="6854760" y="2029320"/>
                <a:chExt cx="1748520" cy="3510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935040" y="202932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3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854760" y="202932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767520" y="2380680"/>
                <a:ext cx="1163160" cy="351360"/>
                <a:chOff x="767520" y="2380680"/>
                <a:chExt cx="1163160" cy="3513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847800" y="2380680"/>
                  <a:ext cx="10022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6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67520" y="2380680"/>
                  <a:ext cx="11631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931040" y="2380680"/>
                <a:ext cx="2259360" cy="351360"/>
                <a:chOff x="1931040" y="2380680"/>
                <a:chExt cx="2259360" cy="3513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010960" y="2380680"/>
                  <a:ext cx="209880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Toky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931040" y="2380680"/>
                  <a:ext cx="22593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191120" y="2380680"/>
                <a:ext cx="1695960" cy="351360"/>
                <a:chOff x="4191120" y="2380680"/>
                <a:chExt cx="1695960" cy="3513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271040" y="2380680"/>
                  <a:ext cx="15357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191120" y="2380680"/>
                  <a:ext cx="16959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887800" y="2380680"/>
                <a:ext cx="966600" cy="351360"/>
                <a:chOff x="5887800" y="2380680"/>
                <a:chExt cx="966600" cy="3513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968080" y="2380680"/>
                  <a:ext cx="8060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887800" y="2380680"/>
                  <a:ext cx="96660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854760" y="2380680"/>
                <a:ext cx="1748520" cy="351360"/>
                <a:chOff x="6854760" y="2380680"/>
                <a:chExt cx="1748520" cy="3513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935040" y="2380680"/>
                  <a:ext cx="15879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8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854760" y="2380680"/>
                  <a:ext cx="174852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67520" y="2732400"/>
                <a:ext cx="1163160" cy="351000"/>
                <a:chOff x="767520" y="2732400"/>
                <a:chExt cx="1163160" cy="3510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847800" y="273240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6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67520" y="273240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931040" y="2732400"/>
                <a:ext cx="2259360" cy="351000"/>
                <a:chOff x="1931040" y="2732400"/>
                <a:chExt cx="2259360" cy="3510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10960" y="273240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xic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31040" y="273240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191120" y="2732400"/>
                <a:ext cx="1695960" cy="351000"/>
                <a:chOff x="4191120" y="2732400"/>
                <a:chExt cx="1695960" cy="3510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271040" y="273240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191120" y="273240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887800" y="2732400"/>
                <a:ext cx="966600" cy="351000"/>
                <a:chOff x="5887800" y="2732400"/>
                <a:chExt cx="966600" cy="3510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968080" y="273240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887800" y="273240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854760" y="2732400"/>
                <a:ext cx="1748520" cy="351000"/>
                <a:chOff x="6854760" y="2732400"/>
                <a:chExt cx="1748520" cy="3510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935040" y="273240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2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854760" y="273240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767520" y="3083400"/>
                <a:ext cx="1163160" cy="351000"/>
                <a:chOff x="767520" y="3083400"/>
                <a:chExt cx="1163160" cy="3510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847800" y="308340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7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67520" y="308340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931040" y="3083400"/>
                <a:ext cx="2259360" cy="351000"/>
                <a:chOff x="1931040" y="3083400"/>
                <a:chExt cx="2259360" cy="3510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010960" y="308340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unic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931040" y="308340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191120" y="3083400"/>
                <a:ext cx="1695960" cy="351000"/>
                <a:chOff x="4191120" y="3083400"/>
                <a:chExt cx="1695960" cy="3510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271040" y="308340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91120" y="308340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887800" y="3083400"/>
                <a:ext cx="966600" cy="351000"/>
                <a:chOff x="5887800" y="3083400"/>
                <a:chExt cx="966600" cy="3510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968080" y="308340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7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887800" y="308340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854760" y="3083400"/>
                <a:ext cx="1748520" cy="351000"/>
                <a:chOff x="6854760" y="3083400"/>
                <a:chExt cx="1748520" cy="3510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935040" y="308340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7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854760" y="308340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67520" y="3434760"/>
                <a:ext cx="1163160" cy="351000"/>
                <a:chOff x="767520" y="3434760"/>
                <a:chExt cx="1163160" cy="3510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47800" y="343476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7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67520" y="343476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931040" y="3434760"/>
                <a:ext cx="2259360" cy="351000"/>
                <a:chOff x="1931040" y="3434760"/>
                <a:chExt cx="2259360" cy="3510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010960" y="343476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ontre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931040" y="343476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191120" y="3434760"/>
                <a:ext cx="1695960" cy="351000"/>
                <a:chOff x="4191120" y="3434760"/>
                <a:chExt cx="1695960" cy="351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271040" y="343476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191120" y="343476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5887800" y="3434760"/>
                <a:ext cx="966600" cy="351000"/>
                <a:chOff x="5887800" y="3434760"/>
                <a:chExt cx="966600" cy="351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968080" y="343476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887800" y="343476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854760" y="3434760"/>
                <a:ext cx="1748520" cy="351000"/>
                <a:chOff x="6854760" y="3434760"/>
                <a:chExt cx="1748520" cy="351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935040" y="343476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3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854760" y="343476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767520" y="3786120"/>
                <a:ext cx="1163160" cy="351360"/>
                <a:chOff x="767520" y="3786120"/>
                <a:chExt cx="1163160" cy="3513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847800" y="3786120"/>
                  <a:ext cx="10022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8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67520" y="3786120"/>
                  <a:ext cx="11631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1931040" y="3786120"/>
                <a:ext cx="2259360" cy="351360"/>
                <a:chOff x="1931040" y="3786120"/>
                <a:chExt cx="2259360" cy="3513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010960" y="3786120"/>
                  <a:ext cx="209880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oscow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931040" y="3786120"/>
                  <a:ext cx="22593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191120" y="3786120"/>
                <a:ext cx="1695960" cy="351360"/>
                <a:chOff x="4191120" y="3786120"/>
                <a:chExt cx="1695960" cy="3513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271040" y="3786120"/>
                  <a:ext cx="15357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191120" y="3786120"/>
                  <a:ext cx="16959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887800" y="3786120"/>
                <a:ext cx="966600" cy="351360"/>
                <a:chOff x="5887800" y="3786120"/>
                <a:chExt cx="966600" cy="3513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968080" y="3786120"/>
                  <a:ext cx="8060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8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887800" y="3786120"/>
                  <a:ext cx="96660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6854760" y="3786120"/>
                <a:ext cx="1748520" cy="351360"/>
                <a:chOff x="6854760" y="3786120"/>
                <a:chExt cx="1748520" cy="3513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935040" y="3786120"/>
                  <a:ext cx="15879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05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854760" y="3786120"/>
                  <a:ext cx="174852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767520" y="4137840"/>
                <a:ext cx="1163160" cy="351000"/>
                <a:chOff x="767520" y="4137840"/>
                <a:chExt cx="1163160" cy="3510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47800" y="413784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8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67520" y="413784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1931040" y="4137840"/>
                <a:ext cx="2259360" cy="351000"/>
                <a:chOff x="1931040" y="4137840"/>
                <a:chExt cx="2259360" cy="3510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010960" y="413784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s Ange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931040" y="413784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4191120" y="4137840"/>
                <a:ext cx="1695960" cy="351000"/>
                <a:chOff x="4191120" y="4137840"/>
                <a:chExt cx="1695960" cy="351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4271040" y="413784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191120" y="413784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887800" y="4137840"/>
                <a:ext cx="966600" cy="351000"/>
                <a:chOff x="5887800" y="4137840"/>
                <a:chExt cx="966600" cy="3510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968080" y="413784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887800" y="413784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854760" y="4137840"/>
                <a:ext cx="1748520" cy="351000"/>
                <a:chOff x="6854760" y="4137840"/>
                <a:chExt cx="1748520" cy="3510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935040" y="413784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16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854760" y="413784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67520" y="4488840"/>
                <a:ext cx="1163160" cy="351000"/>
                <a:chOff x="767520" y="4488840"/>
                <a:chExt cx="1163160" cy="3510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847800" y="448884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8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67520" y="448884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1931040" y="4488840"/>
                <a:ext cx="2259360" cy="351000"/>
                <a:chOff x="1931040" y="4488840"/>
                <a:chExt cx="2259360" cy="3510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010960" y="448884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eou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931040" y="448884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191120" y="4488840"/>
                <a:ext cx="1695960" cy="351000"/>
                <a:chOff x="4191120" y="4488840"/>
                <a:chExt cx="1695960" cy="3510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271040" y="448884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191120" y="448884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887800" y="4488840"/>
                <a:ext cx="966600" cy="351000"/>
                <a:chOff x="5887800" y="4488840"/>
                <a:chExt cx="966600" cy="3510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968080" y="448884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887800" y="448884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854760" y="4488840"/>
                <a:ext cx="1748520" cy="351000"/>
                <a:chOff x="6854760" y="4488840"/>
                <a:chExt cx="1748520" cy="3510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935040" y="448884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53.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854760" y="448884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767520" y="4840200"/>
                <a:ext cx="1163160" cy="351000"/>
                <a:chOff x="767520" y="4840200"/>
                <a:chExt cx="1163160" cy="3510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847800" y="484020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9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7520" y="484020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931040" y="4840200"/>
                <a:ext cx="2259360" cy="351000"/>
                <a:chOff x="1931040" y="4840200"/>
                <a:chExt cx="2259360" cy="3510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010960" y="484020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Barcelon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931040" y="484020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4191120" y="4840200"/>
                <a:ext cx="1695960" cy="351000"/>
                <a:chOff x="4191120" y="4840200"/>
                <a:chExt cx="1695960" cy="3510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271040" y="484020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191120" y="484020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887800" y="4840200"/>
                <a:ext cx="966600" cy="351000"/>
                <a:chOff x="5887800" y="4840200"/>
                <a:chExt cx="966600" cy="3510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968080" y="484020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887800" y="484020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854760" y="4840200"/>
                <a:ext cx="1748520" cy="351000"/>
                <a:chOff x="6854760" y="4840200"/>
                <a:chExt cx="1748520" cy="3510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935040" y="484020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81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854760" y="484020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767520" y="5191560"/>
                <a:ext cx="1163160" cy="351360"/>
                <a:chOff x="767520" y="5191560"/>
                <a:chExt cx="1163160" cy="3513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847800" y="5191560"/>
                  <a:ext cx="10022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9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67520" y="5191560"/>
                  <a:ext cx="11631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931040" y="5191560"/>
                <a:ext cx="2259360" cy="351360"/>
                <a:chOff x="1931040" y="5191560"/>
                <a:chExt cx="2259360" cy="3513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010960" y="5191560"/>
                  <a:ext cx="209880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tlan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931040" y="5191560"/>
                  <a:ext cx="22593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4191120" y="5191560"/>
                <a:ext cx="1695960" cy="351360"/>
                <a:chOff x="4191120" y="5191560"/>
                <a:chExt cx="1695960" cy="3513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271040" y="5191560"/>
                  <a:ext cx="15357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191120" y="5191560"/>
                  <a:ext cx="16959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887800" y="5191560"/>
                <a:ext cx="966600" cy="351360"/>
                <a:chOff x="5887800" y="5191560"/>
                <a:chExt cx="966600" cy="3513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968080" y="5191560"/>
                  <a:ext cx="8060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5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887800" y="5191560"/>
                  <a:ext cx="96660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6854760" y="5191560"/>
                <a:ext cx="1748520" cy="351360"/>
                <a:chOff x="6854760" y="5191560"/>
                <a:chExt cx="1748520" cy="3513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6935040" y="5191560"/>
                  <a:ext cx="15879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90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854760" y="5191560"/>
                  <a:ext cx="174852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767520" y="5542920"/>
                <a:ext cx="1163160" cy="351000"/>
                <a:chOff x="767520" y="5542920"/>
                <a:chExt cx="1163160" cy="3510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847800" y="554292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67520" y="554292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1931040" y="5542920"/>
                <a:ext cx="2259360" cy="351000"/>
                <a:chOff x="1931040" y="5542920"/>
                <a:chExt cx="2259360" cy="3510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010960" y="554292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ydne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931040" y="554292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4191120" y="5542920"/>
                <a:ext cx="1695960" cy="351000"/>
                <a:chOff x="4191120" y="5542920"/>
                <a:chExt cx="1695960" cy="3510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271040" y="554292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191120" y="554292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5887800" y="5542920"/>
                <a:ext cx="966600" cy="351000"/>
                <a:chOff x="5887800" y="5542920"/>
                <a:chExt cx="966600" cy="3510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5968080" y="554292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70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887800" y="554292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6854760" y="5542920"/>
                <a:ext cx="1748520" cy="351000"/>
                <a:chOff x="6854760" y="5542920"/>
                <a:chExt cx="1748520" cy="3510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935040" y="554292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23.0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854760" y="554292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767520" y="5894280"/>
                <a:ext cx="1163160" cy="351000"/>
                <a:chOff x="767520" y="5894280"/>
                <a:chExt cx="1163160" cy="3510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847800" y="589428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00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67520" y="589428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1931040" y="5894280"/>
                <a:ext cx="2259360" cy="351000"/>
                <a:chOff x="1931040" y="5894280"/>
                <a:chExt cx="2259360" cy="3510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010960" y="589428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the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931040" y="589428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4191120" y="5894280"/>
                <a:ext cx="1695960" cy="351000"/>
                <a:chOff x="4191120" y="5894280"/>
                <a:chExt cx="1695960" cy="3510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271040" y="589428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191120" y="589428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5887800" y="5894280"/>
                <a:ext cx="966600" cy="351000"/>
                <a:chOff x="5887800" y="5894280"/>
                <a:chExt cx="966600" cy="3510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968080" y="589428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79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887800" y="589428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6854760" y="5894280"/>
                <a:ext cx="1748520" cy="351000"/>
                <a:chOff x="6854760" y="5894280"/>
                <a:chExt cx="1748520" cy="3510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935040" y="589428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75.8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854760" y="589428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767520" y="6245640"/>
                <a:ext cx="1163160" cy="351000"/>
                <a:chOff x="767520" y="6245640"/>
                <a:chExt cx="1163160" cy="3510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47800" y="624564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00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67520" y="624564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931040" y="6245640"/>
                <a:ext cx="2259360" cy="351000"/>
                <a:chOff x="1931040" y="6245640"/>
                <a:chExt cx="2259360" cy="3510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010960" y="624564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TB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931040" y="624564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191120" y="6245640"/>
                <a:ext cx="1695960" cy="351000"/>
                <a:chOff x="4191120" y="6245640"/>
                <a:chExt cx="1695960" cy="3510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271040" y="624564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91120" y="624564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887800" y="6245640"/>
                <a:ext cx="966600" cy="351000"/>
                <a:chOff x="5887800" y="6245640"/>
                <a:chExt cx="966600" cy="3510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968080" y="624564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89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887800" y="624564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854760" y="6245640"/>
                <a:ext cx="1748520" cy="351000"/>
                <a:chOff x="6854760" y="6245640"/>
                <a:chExt cx="1748520" cy="3510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935040" y="624564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536.4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854760" y="624564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3" name=""/>
            <p:cNvSpPr/>
            <p:nvPr/>
          </p:nvSpPr>
          <p:spPr>
            <a:xfrm>
              <a:off x="762120" y="1676520"/>
              <a:ext cx="7848000" cy="4922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ing or linking prices to actual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uces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tigates the winner’s c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uces reg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s prices o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xamples of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yalties -- Seoul Olym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-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-price (Vickrey)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 information pro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Linkage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in the seller’s interest to adopt the policy of revealing accurate information about value, to reduce winner’s c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st-sharing and royalties reduce winner's curse problem by sharing ri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Auction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e an appropriate reserve price or minimum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scending price (English) auctions rather than sealed-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al information about the value of the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al information about the extent of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icap bidders with a known advan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ilson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al ascending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$20 bill at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ighest bidder wins $20, pays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cond-highest bidder pays bid, wins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ilson Auction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of At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bbying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eds dissipated in the f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games should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First Price Sealed-Bid A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bidder submits a bid in an envelope.  The bids are opened at the same time, and the high bid wins the object and pays his bid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Government sales of timber and offshore oil, government purchases of french fries, airplanes, road construction, pencils, zero gravity toilet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ically used by bureaucracies (government or large firms) to sell or buy th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First Price Sealed-Bid A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ying for real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wo cents per 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Name and BID IN DOLLARS + C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ou agree to pay your bid to Caltech as a d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Norman Conquest, $18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ke Payments in the office of Susan Davis, 238 Bax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6600"/>
                </a:solidFill>
                <a:latin typeface="Arial"/>
                <a:ea typeface="Times New Roman"/>
              </a:rPr>
              <a:t>English (Oral Ascending)</a:t>
            </a:r>
            <a:r>
              <a:rPr b="1" lang="en-US" sz="3700" spc="-1" strike="noStrike">
                <a:solidFill>
                  <a:srgbClr val="ff6600"/>
                </a:solidFill>
                <a:latin typeface="Arial"/>
              </a:rPr>
              <a:t> Auc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120" y="2361960"/>
            <a:ext cx="8077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 auctioneer calls out an increasing series of prices, until no bidder is willing to top the current pri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buy things, prices go in the reverse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tiques, real estate, art, wine,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ed by the Babylon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w transactions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Things Sold by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adio spectrum, prize bulls, race horses, off-shore oil leases, timber, antiques, tobacco, fresh fish, used cars, cut flowers (Holland), coins, stamps, wine, art, houses (80% in Australia), U.S. Treasury bills, stocks, pork bellies,   OJ,   gold,   wheat, foreign currency, TV broadcast rights for sports, corporations, celebrities' signatur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The Greatest Auction in History“  (William Safir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York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March 16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The Auction of the Century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b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Paris, March 15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The most dramatic example of game theory's new power.  It was a triump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only for the FCC and the taxpayers, but also for game theory (and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orists)."  (Fortune, February 6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The government is smoking something to think they are going to get $10 billion for these licenses.“ [$20 billion raise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CI chairman Bert Roberts, October 20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For once, the government is doing a great job of dragging money out of people."    (McCaw chairman Wayne Perry, June 6, 199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FCC A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nglish Auction: How to B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know you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d up to your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mina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gnore jump b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value is unc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 bids signal something abou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01:56:03Z</dcterms:created>
  <dc:creator>R. Preston McAfee</dc:creator>
  <dc:description/>
  <dc:language>en-US</dc:language>
  <cp:lastModifiedBy>Randolph P McAfee</cp:lastModifiedBy>
  <dcterms:modified xsi:type="dcterms:W3CDTF">2005-03-12T15:16:52Z</dcterms:modified>
  <cp:revision>35</cp:revision>
  <dc:subject/>
  <dc:title>The Winner’s Curse</dc:title>
</cp:coreProperties>
</file>