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8D763-6AE6-4F94-878B-0352E9A80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sight is to put the preferences on same line as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sales: service, coffee, browsing, selection, knowledgeable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fast 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bit of math to illustrate where logic come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wo instances of math in course, other is war of at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s better, plu overconfident, plus risk-lov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of this as the theory of Hong K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2DF-FE75-40E6-9843-CD99EEE3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F04-88A5-41F8-8363-8A0F93FA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7C6-75FD-4680-AF98-5B4350EA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6BB-29B8-4921-A48D-26AD3577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09C9-4BF4-4881-92BE-7654B911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4CC5-7F77-4C8D-B1A7-1A040A8B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185D-B4E3-425E-8126-5D589635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E67D-92E9-411F-9337-4BE9A9F1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8DBB-46C0-4B0F-BCA3-E2DBF196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9F8E-553A-4F09-863A-8AA1FC9A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B74E-DF0F-490B-A5EB-002461E5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6C3-8E78-43FF-8532-2A835ABE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C960-85BA-46BB-A0D0-4592295B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4074-24C2-4599-AC9E-A0C21B8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04DB-813F-4CE7-94D7-6B122EB1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C2ED-64A7-44D7-9EC6-53C9BC77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8802-CAA6-4E9C-A0F2-5840D89B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2EA-55E3-4916-8279-6DAE728B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37A-4F68-4DCA-AF3C-009AE67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881-2EF1-4B40-822E-846B879F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4BE-C02B-404A-B5B6-9E8162C2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6B2-A1E4-4CF5-B193-62E88D46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2BD-B7D8-4C48-825B-1FBC1077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D3D-E5E7-4061-84DD-E9450E8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A58D-036E-43BD-862F-71E64EEB97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45F6-AC30-4F97-B876-78F0CAEC50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Oligopol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295280" y="1676520"/>
                <a:ext cx="4191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295280" y="2971800"/>
            <a:ext cx="723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ts Depend on number of non-sho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dustry Perform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s Depend on number of non-shop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ppers convey a positive externality to the non-shop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-shoppers convey a negative externality on shop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124080" y="2362320"/>
                <a:ext cx="4191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120" y="1371600"/>
            <a:ext cx="7391160" cy="5105520"/>
            <a:chOff x="762120" y="1371600"/>
            <a:chExt cx="7391160" cy="51055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739116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778200" y="2153160"/>
              <a:ext cx="392256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Expected price for loyal customer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24000" y="5279400"/>
              <a:ext cx="4525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pected price for shop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809880" y="2362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ed price for loyal custome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5181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ed price for shop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rnal Effect of Shopp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66680" y="1600200"/>
            <a:ext cx="7467840" cy="4648320"/>
            <a:chOff x="1066680" y="1600200"/>
            <a:chExt cx="7467840" cy="46483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066680" y="1600200"/>
              <a:ext cx="746784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003120" y="2116440"/>
              <a:ext cx="290412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pected price for loyal custo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03120" y="4828680"/>
              <a:ext cx="235080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pected price for shop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902840" y="2514240"/>
            <a:ext cx="2183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xpected price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loyal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58676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xpected price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hop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di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predictable pr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cery prices vary week to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% price changes co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form for price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ly te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e correlation ov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prices build up consumer inven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nsumer inventories induce high p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telling Li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8108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 are viewed as located on a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e line represents preferences of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4724280"/>
            <a:ext cx="8228880" cy="1026720"/>
            <a:chOff x="457200" y="4724280"/>
            <a:chExt cx="8228880" cy="1026720"/>
          </a:xfrm>
        </p:grpSpPr>
        <p:grpSp>
          <p:nvGrpSpPr>
            <p:cNvPr id="159" name=""/>
            <p:cNvGrpSpPr/>
            <p:nvPr/>
          </p:nvGrpSpPr>
          <p:grpSpPr>
            <a:xfrm>
              <a:off x="457200" y="5388120"/>
              <a:ext cx="8228880" cy="362880"/>
              <a:chOff x="457200" y="5388120"/>
              <a:chExt cx="8228880" cy="362880"/>
            </a:xfrm>
          </p:grpSpPr>
          <p:sp>
            <p:nvSpPr>
              <p:cNvPr id="160" name=""/>
              <p:cNvSpPr/>
              <p:nvPr/>
            </p:nvSpPr>
            <p:spPr>
              <a:xfrm>
                <a:off x="457200" y="5388120"/>
                <a:ext cx="8149320" cy="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PlaceHolder 2"/>
              <p:cNvSpPr>
                <a:spLocks noGrp="1"/>
              </p:cNvSpPr>
              <p:nvPr>
                <p:ph/>
              </p:nvPr>
            </p:nvSpPr>
            <p:spPr>
              <a:xfrm>
                <a:off x="536760" y="5428800"/>
                <a:ext cx="814932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rmAutofit fontScale="54000"/>
              </a:bodyPr>
              <a:p>
                <a:pPr marL="185040" indent="0" algn="ctr">
                  <a:spcBef>
                    <a:spcPts val="1749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Target Age of Audience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4724280"/>
              <a:ext cx="59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ustomer Ag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y (“vertical differentiation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s mile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ety (“horizontal differentiation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rcle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96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n locations on unit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ort cos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s minimize cost of purchase plus tran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1371600"/>
            <a:ext cx="7543440" cy="1980720"/>
            <a:chOff x="685800" y="1371600"/>
            <a:chExt cx="7543440" cy="1980720"/>
          </a:xfrm>
        </p:grpSpPr>
        <p:sp>
          <p:nvSpPr>
            <p:cNvPr id="168" name=""/>
            <p:cNvSpPr/>
            <p:nvPr/>
          </p:nvSpPr>
          <p:spPr>
            <a:xfrm>
              <a:off x="685800" y="2560320"/>
              <a:ext cx="749628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1920" y="2757960"/>
              <a:ext cx="76104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31480" y="2361960"/>
              <a:ext cx="0" cy="3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98680" y="2361960"/>
              <a:ext cx="0" cy="3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24960" y="2361960"/>
              <a:ext cx="0" cy="3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98680" y="1965600"/>
              <a:ext cx="3232440" cy="0"/>
            </a:xfrm>
            <a:prstGeom prst="line">
              <a:avLst/>
            </a:prstGeom>
            <a:ln w="63360">
              <a:solidFill>
                <a:srgbClr val="00ff00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31480" y="1965600"/>
              <a:ext cx="3093480" cy="0"/>
            </a:xfrm>
            <a:prstGeom prst="line">
              <a:avLst/>
            </a:prstGeom>
            <a:ln w="63360">
              <a:solidFill>
                <a:srgbClr val="00ff00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56800" y="1371600"/>
              <a:ext cx="1331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ength 1/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74360" y="2757960"/>
              <a:ext cx="76140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8200" y="2757960"/>
              <a:ext cx="76104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3320" y="1371600"/>
              <a:ext cx="1331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ength 1/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ermination of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523520"/>
            <a:ext cx="8153280" cy="4727520"/>
            <a:chOff x="304920" y="1523520"/>
            <a:chExt cx="8153280" cy="4727520"/>
          </a:xfrm>
        </p:grpSpPr>
        <p:grpSp>
          <p:nvGrpSpPr>
            <p:cNvPr id="181" name=""/>
            <p:cNvGrpSpPr/>
            <p:nvPr/>
          </p:nvGrpSpPr>
          <p:grpSpPr>
            <a:xfrm>
              <a:off x="533160" y="1523520"/>
              <a:ext cx="7925040" cy="4727520"/>
              <a:chOff x="533160" y="1523520"/>
              <a:chExt cx="7925040" cy="472752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838080" y="5715000"/>
                <a:ext cx="7543800" cy="536040"/>
                <a:chOff x="838080" y="5715000"/>
                <a:chExt cx="7543800" cy="536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838080" y="5715000"/>
                  <a:ext cx="75438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219320" y="57913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162920" y="57150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2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 flipV="1">
                <a:off x="1523880" y="3733560"/>
                <a:ext cx="0" cy="198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391520" y="3733560"/>
                <a:ext cx="0" cy="198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38080" y="36576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467480" y="3733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533160" y="1523520"/>
                <a:ext cx="7925040" cy="2210040"/>
                <a:chOff x="533160" y="1523520"/>
                <a:chExt cx="7925040" cy="221004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flipV="1">
                  <a:off x="533160" y="2971440"/>
                  <a:ext cx="990360" cy="76212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523880" y="1523520"/>
                  <a:ext cx="5562720" cy="221004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1828800" y="1676160"/>
                  <a:ext cx="5562720" cy="205740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7391520" y="2971440"/>
                  <a:ext cx="1066680" cy="76212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533520" y="1981080"/>
                <a:ext cx="198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elivered prices of F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81080" y="2362320"/>
                <a:ext cx="914400" cy="685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00800" y="1905120"/>
                <a:ext cx="175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elivered price2 of F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219320" y="2743200"/>
                <a:ext cx="380880" cy="53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86600" y="2666880"/>
                <a:ext cx="914400" cy="609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00800" y="2666880"/>
                <a:ext cx="533520" cy="53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343400" y="2590920"/>
              <a:ext cx="0" cy="312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5486400"/>
              <a:ext cx="3962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5486400"/>
              <a:ext cx="3962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quilibrium Pr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se all firms but one charg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ining firm charg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librium if profit-maximiz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 who is indifferent is distanc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x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4876920"/>
                <a:ext cx="64008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urn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firms, each maximiz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2438280"/>
                <a:ext cx="4762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14400" y="3581280"/>
                <a:ext cx="68580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it Maxim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 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imized 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libriu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447920"/>
                <a:ext cx="54864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0400" y="4952880"/>
                <a:ext cx="3230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90720" y="3352680"/>
                <a:ext cx="78483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its and Effici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s a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y cos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yiel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cost of delivery 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t number of firms 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 many firm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71800" y="1371600"/>
                <a:ext cx="685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48320" y="2666880"/>
                <a:ext cx="15238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  <m:r>
                          <m:t xml:space="preserve">F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334120" y="3809880"/>
                <a:ext cx="13716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095880" y="4952880"/>
                <a:ext cx="20624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  <m:r>
                          <m:t xml:space="preserve">F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cy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 sets commiss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alar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nt obt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effort in output units, 1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asures the disutility of effort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risk,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risk prem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06560" y="2708280"/>
                <a:ext cx="472896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t Maxim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rking agent maximiz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effor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yield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ing shares increase eff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ar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set to insure the agent accepts the job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reservation utility level)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98480" y="4800600"/>
                <a:ext cx="77979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½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ary Determi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giv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lary must be higher to compensate for increased risk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200400" y="1523880"/>
                <a:ext cx="44845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½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rm Prof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m ea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rovides the firm with the output, minus the cost of effort, the cost of the agent, and the cost of ris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66680" y="2286000"/>
            <a:ext cx="7075440" cy="2351160"/>
            <a:chOff x="1066680" y="2286000"/>
            <a:chExt cx="7075440" cy="2351160"/>
          </a:xfrm>
        </p:grpSpPr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066680" y="2286000"/>
                  <a:ext cx="32223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1523880" y="2971800"/>
                  <a:ext cx="66182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a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½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λ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1676160" y="3809880"/>
                  <a:ext cx="5006880" cy="8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a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½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λ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rm Maxim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m chooses the agent’s shar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hare increases in the ability 1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agent, and decreases in the riskiness or cost of ris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09680" y="2362320"/>
                <a:ext cx="24814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lection of Ag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nt paid with a combination of salary and com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fixed salary, more able agents obtain a higher retu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offering a higher commission, lower salary will attract more able ag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/M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entives aren’t just about effort, but about agent selection as 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lications of FO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rschman Herfindahl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90920" y="1371600"/>
                <a:ext cx="13716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4920" y="2666880"/>
                <a:ext cx="7848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72200" y="4038480"/>
                <a:ext cx="19810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H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5105520"/>
                <a:ext cx="533412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den>
                        </m:f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HI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urn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s a tractable intermediate case between monopoly and compet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xed costs can be used to generate the number of fi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ly used in antitrust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ce Disper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ure of law of one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ceries, airline tickets, etc. have high var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attributes to informational or search differ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nsumer buys on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 pric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shoppers, seek best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uy from on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irms (loy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 =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re strategy equilibrium ex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ther beat low price firm or charge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xed Strategy Equilibri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k distrib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r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n others randomize ove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ofits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s are constant to induce random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14400" y="2819520"/>
                <a:ext cx="6019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90720" y="5257800"/>
                <a:ext cx="7391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 randomizes with distrib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the interval [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87520" y="2819520"/>
                <a:ext cx="56847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57400" y="4495680"/>
                <a:ext cx="4343400" cy="20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14T18:13:45Z</dcterms:modified>
  <cp:revision>19</cp:revision>
  <dc:subject/>
  <dc:title>Supply &amp; Demand</dc:title>
</cp:coreProperties>
</file>