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7A85-31E8-46F9-A625-3AAE970E2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: 2 uses for strateg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about f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y toward compet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y still ev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law not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xon-Mobil document production 125 million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ime, Europe is passing pro-cartel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law is created by courts, not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ntract/combination in restraint of trade”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ny contract leg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ckham: intent to decrease Q il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of reason as opposed to per 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Can’t tell if you have com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ax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onopoly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no competitiv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no vi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 misunderstanding of micro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poly power in Win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attempt to extend this power to brow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ding capacity ruling proble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atisfied with Sherman act enforcement, Congress passed new law, created new agency (F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ing – buy one good to obtain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ments tying – buyer agrees to buy all its needs from s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lusive dealing – buyer agrees to deal only with s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lusive territories – buyer agrees to operate only in one region to gain access to s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M – buyer agrees to minimum p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y pricing – pricing below cost to eliminate a compet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 distributors settled, 42+ states on 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ly dealing with SPAM and click to unsub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ac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road bri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pen ski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ion: Walmart, 3 pharmaceutical prices less than cost, defense was it was a mistake, natural with 10,000 products, jury found Walmart guilty any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on in DOJ v American Air makes predation more difficult to p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2FB-F759-4828-9886-5FB13E4B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747-D13C-440E-BF2B-EF0606AA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24F-D1E1-4DE7-B775-A52F88DD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03E-385D-480D-A009-665DF88B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0F7E-EA31-4988-B8FC-9691B205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E0E1-CF20-4FB9-8C2E-896C201C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9F6D-81B3-4C97-9843-46F3C255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91F4-595F-41B2-8254-30E0E551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53F8-E4DE-46F6-87CE-E88649DE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217C-CA37-4640-B3D4-242663E4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3FA3-189B-41B2-A837-678C0111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2706-9A7B-44E9-ADF8-E832129F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BF74-619B-4495-B5A2-3709EA91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1B81-E943-402C-80D4-2E7CADF1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56D7-0AE7-4E62-B0F0-876D5D07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204E-E492-435D-9C14-12896769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CBA0-B4D5-4CA4-9D8E-DA8BF670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C6D-6777-4B70-B80D-AF2491C9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01D-290E-408F-9AE3-23A7F06E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9A1-2B42-462D-A4F1-255D2455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80B-851C-4E0A-9714-3AA5C7CE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64E-E02F-40B9-94A8-C2B23B60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951-02D2-48D1-9671-A1DBC086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364-B240-46DF-9D36-6B9C897F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A7E4-6B88-4498-A202-A5E69B24F7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6F2F-84A1-4E8C-852D-F1DEBC07DA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Antitrus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rg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rizont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t mark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a hypothetical monopolist over set of products find it profitable to raise price by a SSNI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ographic mark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a hypothetical monopolist over a geographic area find it profitable to raise price by a SSNI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SNIP =  small but significant and nontransitory increase in pr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% for 2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sessing Concen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irschmann-Herfindahl Index (HHI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the sum of the squared market sha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&lt;1000, unconcentrated, no concer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000-1800, moderate, some concer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&gt;1800, concentrated, concer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aries with industry characteristics, history of collusion, profit margi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ertical Merg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aising rival’s cos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reclosur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crosoft’s proposed merger of Intu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OS to eliminate rivals to Quicke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ime Warner/TBS (owns CNN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TC required equal ac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erman Act (189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ttempt to monopolize illeg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spiracy to restraint trade illeg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andard Oil broken into 33 compan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nes and imprisonment for viol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ule of Reas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 you have a pro-competitive reaso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o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wo part t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d firm have monopoly power in a market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d firm engage in illegal activity to extend or maintain that powe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egal to obtain monopoly through “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a superior product, business acumen or historic acciden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co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iolated law b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acts prohibiting utilities from selling power to rival smel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ce-fixing with foreign produc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reasing price of ingot to sheet fabrica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anding capacity to eliminate riv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 created competitors Reynolds, Kaiser using WWII asse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ayton Act (1914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dds detail to Sher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 criminal penalt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eble damag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tion 2 (Robinson Patman) prohibits price discrimination which lessens competi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rton salt volume discounts illegal (1948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tion 7 bans mergers that lessen competi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ction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rbids exclusionary tactics that lessen competition, including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ying (must buy one good to get anoth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quirements Tying (buyer agrees to buy all its needs from the sell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xclusive Dealing (buyer agrees to deal only with sell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xclusive Territories (Buyer agrees to operate only in specified reg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sale Price Maintenance (Buyer agrees to a minimum resale pric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redatory Pricing (pricing below cost to eliminate a competito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TC A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ermits FTC commissioners to prevent unfair and deceptive practi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mmission is quasi-judici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sues restraining ord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izza, oil treatments, and shak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ertical Restrai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usal to de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access to an essential facility denied, firm cannot compete and competition harm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ed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ce below MC, AV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ility to recoup lost profi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ertical Restraints, Cont’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nce sold, good cannot be further constrain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ors east of Mississipp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rcedes car pa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ale Price Mainten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ying purchase of one good to use or non-use of another in order to lessen competition is illega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ying Kodak film to Kodak develop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rry 3M equipment, can’t carry riva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14:28:38Z</dcterms:created>
  <dc:creator>Randolph P McAfee</dc:creator>
  <dc:description/>
  <dc:language>en-US</dc:language>
  <cp:lastModifiedBy>Randolph P McAfee</cp:lastModifiedBy>
  <dcterms:modified xsi:type="dcterms:W3CDTF">2004-09-02T20:56:43Z</dcterms:modified>
  <cp:revision>18</cp:revision>
  <dc:subject/>
  <dc:title>Antitrust</dc:title>
</cp:coreProperties>
</file>