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50D-280F-45D0-B4CA-F2D46CD8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475-57D7-4739-BC25-63F2EF6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3AE-1410-4295-83FF-F2FA6CEF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FFA-26E3-460B-9E6E-D91F3CE2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436-D798-4219-AA87-683A7C6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C97-C10B-4B8A-A2AF-8A5B9904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4C7-6AA0-45AE-89FC-07FF675C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191-8A43-4955-93E2-DD5031B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114-A301-46B9-9025-3B80ED8F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A15-A921-42F0-BC5B-B03912C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427-C036-4A65-8BCD-CC6EED4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1D2-C68D-4CAA-B862-1CB8780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0865-5CBC-4839-879B-93FB15FD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5345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more like they are now than they have ever b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cerpt from the Lancashire Social Services Department, explaining why Harry and Esther Hough were not qualified to adopt a chi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would seem from the interviews and reports that both of you have had few, if any, negative experiences when you were children yourselves, and also seem to enjoy a marital experience where rows and arguments have no place.  Under the circumstances, adopted children would not have sufficient exposure to negative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tter goes on to say that the couple "exuded excessive harmon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e Sutter has been around for a while and he's pretty old.  He's thirty‑five years old.  That will give some idea how old h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n Fairly, S.F. Giants broadc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lowdown scoundrel deserves to be kicked to death by a jackass, and I'm just the one to do it.     ‑a Texas congressional candidate, quoted by MA state senator John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great day for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Nixon, while attending Charles de Gaulle's fu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worst disaster in California since I was 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governor Pat Brown, discussing a f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A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isk-adjusted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djustment for project, not pa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botson Cost of Capital Year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expected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 if E NPV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of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d invested $1 in the following from end of 1925 to end of 1999 it would have increa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2362320"/>
          <a:ext cx="8000640" cy="3657240"/>
        </p:xfrm>
        <a:graphic>
          <a:graphicData uri="http://schemas.openxmlformats.org/drawingml/2006/table">
            <a:tbl>
              <a:tblPr/>
              <a:tblGrid>
                <a:gridCol w="5000400"/>
                <a:gridCol w="1599840"/>
                <a:gridCol w="1400400"/>
              </a:tblGrid>
              <a:tr h="72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W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P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845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ompany stock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64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corporate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government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-term government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Treasury B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1830240"/>
          <a:ext cx="8596080" cy="3579480"/>
        </p:xfrm>
        <a:graphic>
          <a:graphicData uri="http://schemas.openxmlformats.org/drawingml/2006/table">
            <a:tbl>
              <a:tblPr/>
              <a:tblGrid>
                <a:gridCol w="4284000"/>
                <a:gridCol w="1447560"/>
                <a:gridCol w="1357920"/>
                <a:gridCol w="1506600"/>
              </a:tblGrid>
              <a:tr h="71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ic 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ompany sto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ompany sto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corporate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government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-term gov’t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Treasury B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213080" y="1828800"/>
                <a:ext cx="14018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202280" y="3200400"/>
                <a:ext cx="1025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14400" y="4495680"/>
                <a:ext cx="67057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Returns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makes sense when using rates of return over several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would be used for expected returns in a give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ek animators deny rumors that the Dreamworks character is based on Disney CEO Michael Eis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282240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955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tation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 is the recitatio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ho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questions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V is appropriate for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w or never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w or l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an additional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 a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 an oil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destroys option to in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 to produce a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[0,1], interest 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toff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vest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NPV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9480" y="4191120"/>
                <a:ext cx="74678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9480" y="1447920"/>
                <a:ext cx="4648320" cy="20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4724280"/>
                <a:ext cx="6470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0, 0.25, 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upply of a resour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demand elastic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 the quantity consumed at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ge: price rises at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4495680"/>
                <a:ext cx="7239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ε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ε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ge spreads us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ru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rise at 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s don’t view natural resources this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ng alternatives, technolog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, 1 – (1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9.3% an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f life 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9480" y="1371600"/>
                <a:ext cx="48006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0880" y="2057400"/>
                <a:ext cx="8031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-Cu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harvest then r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, lobsters, fish, c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after grow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time interest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3809880"/>
                <a:ext cx="26542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38080" y="1523880"/>
                <a:ext cx="72392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14600" y="2286000"/>
                <a:ext cx="3809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05120" y="4114800"/>
                <a:ext cx="3124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531800"/>
            <a:ext cx="7695720" cy="4640400"/>
            <a:chOff x="457200" y="1531800"/>
            <a:chExt cx="7695720" cy="46404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57200" y="1728360"/>
              <a:ext cx="7454520" cy="444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2848320" y="2956320"/>
              <a:ext cx="1617840" cy="686520"/>
              <a:chOff x="2848320" y="2956320"/>
              <a:chExt cx="1617840" cy="686520"/>
            </a:xfrm>
          </p:grpSpPr>
          <p:sp>
            <p:nvSpPr>
              <p:cNvPr id="134" name=""/>
              <p:cNvSpPr/>
              <p:nvPr/>
            </p:nvSpPr>
            <p:spPr>
              <a:xfrm>
                <a:off x="3467520" y="2956320"/>
                <a:ext cx="998640" cy="68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848320" y="3184560"/>
                <a:ext cx="6188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04760" y="1531800"/>
              <a:ext cx="1186920" cy="636480"/>
              <a:chOff x="1904760" y="1531800"/>
              <a:chExt cx="1186920" cy="636480"/>
            </a:xfrm>
          </p:grpSpPr>
          <p:sp>
            <p:nvSpPr>
              <p:cNvPr id="137" name=""/>
              <p:cNvSpPr/>
              <p:nvPr/>
            </p:nvSpPr>
            <p:spPr>
              <a:xfrm>
                <a:off x="1911600" y="1912320"/>
                <a:ext cx="1180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65240" y="1906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09480" y="198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39600" y="190656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02640" y="153180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16120" y="1906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73680" y="198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4760" y="19854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631280" y="5617440"/>
              <a:ext cx="52164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28800" y="1447920"/>
                <a:ext cx="1447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56386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-Cu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sey Rule: cut down the trees when they are growing at the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policy of maximum sustainable yield send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 yie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523880" y="2743200"/>
                <a:ext cx="3124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5029200"/>
                <a:ext cx="1703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man Sa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giving an informational presentation about careers in finance and Goldman Sachs in particular. I wanted to ask if you could please alert your students and any other interested parties about our pres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ssion Info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 Thursday, Jan 27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4:00 P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Brennen Conferenc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of pay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: same payment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interest 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880" y="2666880"/>
                <a:ext cx="8153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38080" y="5181480"/>
                <a:ext cx="60962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$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perio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2200" y="4038480"/>
                <a:ext cx="31176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2514600"/>
                <a:ext cx="75056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 Lo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½% 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/ month for 60 months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orrow $20,000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38080" y="2971800"/>
                <a:ext cx="6337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765440" y="5330880"/>
                <a:ext cx="4483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of the Lo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M/yr,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" y="2286000"/>
                <a:ext cx="8305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533520" y="3962520"/>
          <a:ext cx="8305200" cy="1143000"/>
        </p:xfrm>
        <a:graphic>
          <a:graphicData uri="http://schemas.openxmlformats.org/drawingml/2006/table">
            <a:tbl>
              <a:tblPr/>
              <a:tblGrid>
                <a:gridCol w="1331640"/>
                <a:gridCol w="1227600"/>
                <a:gridCol w="1175400"/>
                <a:gridCol w="1176840"/>
                <a:gridCol w="1176840"/>
                <a:gridCol w="1175400"/>
                <a:gridCol w="10414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(000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,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4,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,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,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,3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9,3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pays $1000 in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increase causes bond prices to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066680" y="2362320"/>
                <a:ext cx="50292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BA Investm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 project if NPV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e to calculating internal rates of return (solve equation NPV=0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cause IRR not well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26T20:42:05Z</dcterms:modified>
  <cp:revision>15</cp:revision>
  <dc:subject/>
  <dc:title>Supply &amp; Demand</dc:title>
</cp:coreProperties>
</file>