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5A091B-D1EF-4DE9-94E4-FDC4D1C6CC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st signal is something that A’s have low cost, B’s have high co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not be produ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of sig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A has low cost, B has high c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not be directly produ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ion: University doubles real earnings.  MBA NPV is $1 M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ion signals flex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l product line signals commitment to market, therefore support for old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erse split gets share price over $1, hurts share price.  Why?  Signals that management has nothing up its slee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 the p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d in real world in costly fashion – certification, warran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ron t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A12F-D4F3-44C0-94DE-2976EE4D8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06FB-37FF-4544-9623-725AAE5C9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CD60-DA0F-4CDF-B041-BB9B39B1B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F6BA-8890-4A66-BB31-CB3133200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DE6CB-7FA0-41A9-B357-9A1166CA3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DCB30-A305-4A42-864E-ED095727E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965ED-B637-4B9D-B98C-7E0868187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0DE5B-9BD2-493F-A76D-14FFB1053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1D2DD-2CED-49C9-91FC-4B77E998B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2241D-F301-43A3-AF92-30B536342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042D4-D546-49E3-85B8-581BD69E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6AE1-3524-40F4-86A2-25AC6C58B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97AA6-C661-4CBA-84C4-182D2CCF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5845F-47E9-4148-8D63-FDF1F01E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70408-89D7-4D5D-9E73-1B4868A7A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BE4EF-4441-412C-8806-BB00A40EF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C433C-C871-4D30-9AD5-0435557C8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5862-2AF2-4D81-BF11-D172A0BEA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9B27-57CD-42F0-B7DE-F115B3387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8448-ECF3-4842-9A8C-7631F76B5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8815-4A9E-4BB4-8B2C-AA3E0C027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3261-5D09-4C42-B163-C823AD38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1588-7FC5-48AA-9AEA-EDE44CB0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DDB6-523D-48E6-AD96-525432A2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734B3-8132-4009-A071-9EBA1F60689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A2BC8-7D30-4B0F-AD21-1CA1E55A0F4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Informatio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evel Needed to Signa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Q such tha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 &gt; w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B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gt;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ducation level Q will serve to signal that person is type 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ype A’s rationally choose to signal, type B’s choose not to sign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stly information transmis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xampl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anks, insurance companies build enormous building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arranti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esigner label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troductory offer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ntroductory Off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w enough so that sale is profitable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onl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f there is repeat busi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blem: low price may signal low quality, or create expectations of low pri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lution: visibly spend money (“burning money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ome Products with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Introductory Offer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ltic sea sal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tery clean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inforest preserv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siness ethi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ese repella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lk plankt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ther Signaling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try deterr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ain store parado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w price signals low cost, bad mark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w prices deter ent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ilure of complementary g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nnot detect source of failu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lutions: bundling, educ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on/management signaling patience in a strik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nagement signals low profi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egway and Solotrek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533520" y="1447920"/>
            <a:ext cx="8229600" cy="4174920"/>
            <a:chOff x="533520" y="1447920"/>
            <a:chExt cx="8229600" cy="4174920"/>
          </a:xfrm>
        </p:grpSpPr>
        <p:pic>
          <p:nvPicPr>
            <p:cNvPr id="130" name="" descr=""/>
            <p:cNvPicPr/>
            <p:nvPr/>
          </p:nvPicPr>
          <p:blipFill>
            <a:blip r:embed="rId1"/>
            <a:srcRect l="0" t="0" r="0" b="1408"/>
            <a:stretch/>
          </p:blipFill>
          <p:spPr>
            <a:xfrm>
              <a:off x="533520" y="1447920"/>
              <a:ext cx="1962720" cy="41749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31" name="" descr=""/>
            <p:cNvPicPr/>
            <p:nvPr/>
          </p:nvPicPr>
          <p:blipFill>
            <a:blip r:embed="rId2"/>
            <a:srcRect l="0" t="0" r="0" b="9235"/>
            <a:stretch/>
          </p:blipFill>
          <p:spPr>
            <a:xfrm>
              <a:off x="2511720" y="1447920"/>
              <a:ext cx="2676600" cy="41749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32" name="" descr=""/>
            <p:cNvPicPr/>
            <p:nvPr/>
          </p:nvPicPr>
          <p:blipFill>
            <a:blip r:embed="rId3"/>
            <a:stretch/>
          </p:blipFill>
          <p:spPr>
            <a:xfrm>
              <a:off x="5202720" y="1447920"/>
              <a:ext cx="3560400" cy="41749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Robert Thornton, a professor of economics at Lehigh University in Bethlehem, PA, has compiled a list, the Lexicon of Inconspicuously Ambiguous Recommendations, of useful phrases for letters of recommendation on marginally qualified or unqualified candidates. Thornton's AEA listing gives his specialty as Public Employee Bargaining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ome examples from LIAR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or a lazy candidate: In my opinion, you will be very fortunate to get this person to work for you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o describe a person who is totally inept: I most enthusiastically recommend this candidate with no qualifications whatsoever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o describe an ex‑employee who had problems getting along with fellow workers: I am pleased to say that this candidate is a former colleague of mine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o describe a candidate who is so unproductive that the job would be better left unfilled: I can assure you that no person would be better for the job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o describe a job applicant who is not worth further consideration: I would urge you to waste no time in making this candidate an offer of employment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o describe a person with lackluster credentials: All in all, I cannot say enough good things about this candidate or recommend him too highly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arket for Lem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ality q of cars uniform on [0,1]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ller values car at q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 known only to sell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yer at 3q/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iven price p, sellers with cars q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 willing to sell, with average quality ½ 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yers value such cars at ¾ p &lt; 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ormation asymmetry prevents market from ope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yerson-Satterthwait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yerson Caltech undergrad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tterthwaite Caltech Ph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yer value v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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U [0,1]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ller cost c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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U [0,1]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chanism to arrange trades efficient if trade occurs when v &gt; 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fficient Tra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der efficient trade, GFT 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chanism charges buyer p(v,c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yer obtains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r,v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 =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v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E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049480" y="2362320"/>
                <a:ext cx="397836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v</m:t>
                            </m:r>
                          </m:sup>
                          <m:e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uyer Profi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8951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us buyer profits 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the gains from trade go to the buyer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533520" y="1523880"/>
                <a:ext cx="777240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685800" y="3581280"/>
                <a:ext cx="7772400" cy="15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+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vdv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yerson-Satterthwait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ller also gets all GFT (similar argumen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fficient trade impossi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yers tend to understate actual value to improve terms of tra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llers tend to overstate co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ult is failure to trade effici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ffect is small in large marke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tentially large in small marke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e way to have inefficient trade is del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743200" y="228600"/>
            <a:ext cx="3681360" cy="64501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ahoma"/>
              </a:rPr>
              <a:t>Signaling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duc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wo types A, 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ductivity of A higher than 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known, types get wages w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&gt; w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ypes hard to obser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gnaled with education: obtaining education level q costs type i 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7T04:47:41Z</dcterms:created>
  <dc:creator>Randolph P McAfee</dc:creator>
  <dc:description/>
  <dc:language>en-US</dc:language>
  <cp:lastModifiedBy>Randolph P McAfee</cp:lastModifiedBy>
  <dcterms:modified xsi:type="dcterms:W3CDTF">2005-02-15T19:33:59Z</dcterms:modified>
  <cp:revision>15</cp:revision>
  <dc:subject/>
  <dc:title>Supply &amp; Demand</dc:title>
</cp:coreProperties>
</file>