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1659-7AB4-4DBA-AE09-1E080659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BCD1-BEDF-4139-914E-193E991B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7B46-C695-49D9-8FC1-82BFEAA0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621F-56EE-4B50-91A5-11E83FEA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A563-921B-4455-AA97-0B90DA94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616-0E7E-4C0A-AAD9-25C84D67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30F2-A174-4680-AD34-C4201299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3AFB-0067-435E-AF48-714C4232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1637-A79E-47A7-B01F-86F9F025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EEAC-FC3B-488B-9DA5-36DD8AE4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B521-4FE3-4397-BB3F-8EF84C25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50AF-C708-4C31-AF39-DC571FBC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542B-B9C2-4862-9EF1-8C7CA27A8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T be the total number of hours per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George spend G hours making pizzas, and Ann spend A hours making pizzas. 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4343400"/>
                <a:ext cx="25146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</m:e>
                    </m:rad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00240" y="5410080"/>
                <a:ext cx="4303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,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 T eliminating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e over G (G=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 T = 59/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check that no one puts in negative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990720" y="2286000"/>
                <a:ext cx="36576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G</m:t>
                            </m:r>
                          </m:e>
                        </m:rad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’s MC of pizzas is 2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’s cost of P pizzas is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’s MC is 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ting these says George produces 1 pizza, Ann produces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aridian Trad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s specialize in comparative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advantage springs from abundance of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skills, land, capital equipment, sunshine, warm weather,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Price Eq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d goods “embody factors of production” (inpu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obile has metals, plastics, labor, factory space, rob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ybeans have land, labor, fertil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 can be thought of shifting inputs from country to country, thereby equalizing supply of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s “factor price equaliz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 1.5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ed Mar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2133720"/>
            <a:ext cx="9141480" cy="4416840"/>
            <a:chOff x="0" y="2133720"/>
            <a:chExt cx="9141480" cy="4416840"/>
          </a:xfrm>
        </p:grpSpPr>
        <p:graphicFrame>
          <p:nvGraphicFramePr>
            <p:cNvPr id="45" name=""/>
            <p:cNvGraphicFramePr/>
            <p:nvPr/>
          </p:nvGraphicFramePr>
          <p:xfrm>
            <a:off x="0" y="2133720"/>
            <a:ext cx="4559400" cy="4405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2133720"/>
                      <a:ext cx="4559400" cy="440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" name=""/>
            <p:cNvGraphicFramePr/>
            <p:nvPr/>
          </p:nvGraphicFramePr>
          <p:xfrm>
            <a:off x="4572000" y="2133720"/>
            <a:ext cx="4569480" cy="44168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2133720"/>
                      <a:ext cx="4569480" cy="441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" name=""/>
            <p:cNvSpPr/>
            <p:nvPr/>
          </p:nvSpPr>
          <p:spPr>
            <a:xfrm>
              <a:off x="486720" y="4085280"/>
              <a:ext cx="7635960" cy="140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76640" y="3248280"/>
              <a:ext cx="2920680" cy="950040"/>
            </a:xfrm>
            <a:prstGeom prst="line">
              <a:avLst/>
            </a:prstGeom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99320" y="3974760"/>
              <a:ext cx="2888280" cy="88776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94560" y="2698200"/>
              <a:ext cx="1161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m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84920" y="4885200"/>
              <a:ext cx="12819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pp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73120" y="2896560"/>
              <a:ext cx="11617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41920" y="2158920"/>
              <a:ext cx="1425240" cy="3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 1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Possibilities Fron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28240" y="1523880"/>
            <a:ext cx="7348320" cy="5042880"/>
            <a:chOff x="228240" y="1523880"/>
            <a:chExt cx="7348320" cy="5042880"/>
          </a:xfrm>
        </p:grpSpPr>
        <p:grpSp>
          <p:nvGrpSpPr>
            <p:cNvPr id="58" name=""/>
            <p:cNvGrpSpPr/>
            <p:nvPr/>
          </p:nvGrpSpPr>
          <p:grpSpPr>
            <a:xfrm>
              <a:off x="228240" y="1523880"/>
              <a:ext cx="7348320" cy="5042880"/>
              <a:chOff x="228240" y="1523880"/>
              <a:chExt cx="7348320" cy="504288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673920" y="1870200"/>
                <a:ext cx="6534720" cy="4156920"/>
                <a:chOff x="673920" y="1870200"/>
                <a:chExt cx="6534720" cy="41569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673920" y="1870200"/>
                  <a:ext cx="0" cy="415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673920" y="6027120"/>
                  <a:ext cx="6534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76920" y="1523880"/>
                <a:ext cx="8647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rad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167520" y="6200640"/>
                <a:ext cx="1409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eanlines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240" y="20422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.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240" y="39495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.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28240" y="2909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.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28240" y="49881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09920" y="2216520"/>
              <a:ext cx="5346720" cy="3810600"/>
              <a:chOff x="709920" y="2216520"/>
              <a:chExt cx="5346720" cy="3810600"/>
            </a:xfrm>
          </p:grpSpPr>
          <p:sp>
            <p:nvSpPr>
              <p:cNvPr id="69" name=""/>
              <p:cNvSpPr/>
              <p:nvPr/>
            </p:nvSpPr>
            <p:spPr>
              <a:xfrm>
                <a:off x="709920" y="2216520"/>
                <a:ext cx="5346720" cy="3810600"/>
              </a:xfrm>
              <a:custGeom>
                <a:avLst/>
                <a:gdLst/>
                <a:ahLst/>
                <a:rect l="l" t="t" r="r" b="b"/>
                <a:pathLst>
                  <a:path w="4320" h="3960">
                    <a:moveTo>
                      <a:pt x="0" y="0"/>
                    </a:moveTo>
                    <a:cubicBezTo>
                      <a:pt x="1320" y="210"/>
                      <a:pt x="2640" y="420"/>
                      <a:pt x="3360" y="1080"/>
                    </a:cubicBezTo>
                    <a:cubicBezTo>
                      <a:pt x="4080" y="1740"/>
                      <a:pt x="4160" y="3480"/>
                      <a:pt x="4320" y="396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09920" y="2216520"/>
                <a:ext cx="5346720" cy="381060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Possibilities Fron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ave toward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inishing marginal re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= marginal cost of X in terms of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Slope = marginal cost of Y in terms of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PP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28600" y="1371600"/>
            <a:ext cx="8458200" cy="4800600"/>
            <a:chOff x="228600" y="1371600"/>
            <a:chExt cx="8458200" cy="4800600"/>
          </a:xfrm>
        </p:grpSpPr>
        <p:grpSp>
          <p:nvGrpSpPr>
            <p:cNvPr id="75" name=""/>
            <p:cNvGrpSpPr/>
            <p:nvPr/>
          </p:nvGrpSpPr>
          <p:grpSpPr>
            <a:xfrm>
              <a:off x="228600" y="1371600"/>
              <a:ext cx="8458200" cy="4800600"/>
              <a:chOff x="228600" y="1371600"/>
              <a:chExt cx="8458200" cy="480060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228600" y="1371600"/>
                <a:ext cx="4487040" cy="4800600"/>
                <a:chOff x="228600" y="1371600"/>
                <a:chExt cx="4487040" cy="48006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69600" y="1997640"/>
                  <a:ext cx="0" cy="354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69600" y="5546160"/>
                  <a:ext cx="3088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59440" y="1371600"/>
                  <a:ext cx="1067040" cy="83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Ounces of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vegetabl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28600" y="1997640"/>
                  <a:ext cx="44100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38760" y="3667320"/>
                  <a:ext cx="33084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207240" y="5546160"/>
                  <a:ext cx="44100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883160" y="5546160"/>
                  <a:ext cx="33084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758760" y="5337360"/>
                  <a:ext cx="956880" cy="83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or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’oeuvr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199760" y="1371600"/>
                <a:ext cx="4487040" cy="4800600"/>
                <a:chOff x="4199760" y="1371600"/>
                <a:chExt cx="4487040" cy="48006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640760" y="1997640"/>
                  <a:ext cx="0" cy="354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640760" y="5546160"/>
                  <a:ext cx="3088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530600" y="1371600"/>
                  <a:ext cx="1067040" cy="83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Ounces of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vegetabl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199760" y="1997640"/>
                  <a:ext cx="44100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309920" y="3667320"/>
                  <a:ext cx="33084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178400" y="5546160"/>
                  <a:ext cx="44100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854320" y="5546160"/>
                  <a:ext cx="33084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729920" y="5337360"/>
                  <a:ext cx="956880" cy="83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or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’oeuvr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669600" y="2206440"/>
              <a:ext cx="1323720" cy="333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10400" y="2206440"/>
              <a:ext cx="147888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n’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si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nti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92440" y="1996560"/>
              <a:ext cx="147888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b’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si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nti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41120" y="3876120"/>
              <a:ext cx="2757600" cy="166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ative Advan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 has higher cost of hors d’oeuv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Ann has lower cost of ou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advantage = lower opportunity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have a comparative advantage in all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ar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arky means without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both value items 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{hors d’oeuvres, oz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ly, they can have 40 of both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gether, they can have 60 of each by special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ins from Spec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04920" y="1219320"/>
            <a:ext cx="7466040" cy="5181480"/>
            <a:chOff x="304920" y="1219320"/>
            <a:chExt cx="7466040" cy="5181480"/>
          </a:xfrm>
        </p:grpSpPr>
        <p:grpSp>
          <p:nvGrpSpPr>
            <p:cNvPr id="104" name=""/>
            <p:cNvGrpSpPr/>
            <p:nvPr/>
          </p:nvGrpSpPr>
          <p:grpSpPr>
            <a:xfrm>
              <a:off x="304920" y="1219320"/>
              <a:ext cx="7466040" cy="5181480"/>
              <a:chOff x="304920" y="1219320"/>
              <a:chExt cx="7466040" cy="518148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426960" y="1219320"/>
                <a:ext cx="7344000" cy="5181480"/>
                <a:chOff x="426960" y="1219320"/>
                <a:chExt cx="7344000" cy="51814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426960" y="3057840"/>
                  <a:ext cx="489240" cy="33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49000" y="4394880"/>
                  <a:ext cx="366840" cy="33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732120" y="5899320"/>
                  <a:ext cx="489600" cy="33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262960" y="5899320"/>
                  <a:ext cx="367200" cy="33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" name=""/>
                <p:cNvGrpSpPr/>
                <p:nvPr/>
              </p:nvGrpSpPr>
              <p:grpSpPr>
                <a:xfrm>
                  <a:off x="793800" y="1219320"/>
                  <a:ext cx="6977160" cy="5181480"/>
                  <a:chOff x="793800" y="1219320"/>
                  <a:chExt cx="6977160" cy="5181480"/>
                </a:xfrm>
              </p:grpSpPr>
              <p:grpSp>
                <p:nvGrpSpPr>
                  <p:cNvPr id="111" name=""/>
                  <p:cNvGrpSpPr/>
                  <p:nvPr/>
                </p:nvGrpSpPr>
                <p:grpSpPr>
                  <a:xfrm>
                    <a:off x="793800" y="1219320"/>
                    <a:ext cx="1184400" cy="4679640"/>
                    <a:chOff x="793800" y="1219320"/>
                    <a:chExt cx="1184400" cy="4679640"/>
                  </a:xfrm>
                </p:grpSpPr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915840" y="1920960"/>
                      <a:ext cx="0" cy="3978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793800" y="1219320"/>
                      <a:ext cx="1184400" cy="936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nces 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ge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" name=""/>
                  <p:cNvGrpSpPr/>
                  <p:nvPr/>
                </p:nvGrpSpPr>
                <p:grpSpPr>
                  <a:xfrm>
                    <a:off x="915840" y="5732280"/>
                    <a:ext cx="6855120" cy="668520"/>
                    <a:chOff x="915840" y="5732280"/>
                    <a:chExt cx="6855120" cy="668520"/>
                  </a:xfrm>
                </p:grpSpPr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915840" y="5899320"/>
                      <a:ext cx="53481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6264000" y="5732280"/>
                      <a:ext cx="1506960" cy="66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’oeuv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17" name=""/>
              <p:cNvSpPr/>
              <p:nvPr/>
            </p:nvSpPr>
            <p:spPr>
              <a:xfrm>
                <a:off x="5324040" y="5899320"/>
                <a:ext cx="489600" cy="33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8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04920" y="1887840"/>
                <a:ext cx="489600" cy="33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8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3854880" y="3057840"/>
              <a:ext cx="1713600" cy="284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08440" y="2555640"/>
              <a:ext cx="1229040" cy="12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o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ssi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ront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6920" y="1833840"/>
              <a:ext cx="2937960" cy="122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urs, George can 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s or deliv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urs, Ann can produ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izzas or deliver 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y both work the same number of hours, what minimizes the total time of making and delivering 20 pizz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858000" y="1523880"/>
                <a:ext cx="838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5-01-11T20:37:16Z</dcterms:modified>
  <cp:revision>9</cp:revision>
  <dc:subject/>
  <dc:title>Supply &amp; Demand</dc:title>
</cp:coreProperties>
</file>